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</p:sldMasterIdLst>
  <p:notesMasterIdLst>
    <p:notesMasterId r:id="rId51"/>
  </p:notesMasterIdLst>
  <p:sldIdLst>
    <p:sldId id="256" r:id="rId52"/>
    <p:sldId id="257" r:id="rId53"/>
    <p:sldId id="258" r:id="rId54"/>
    <p:sldId id="259" r:id="rId55"/>
    <p:sldId id="260" r:id="rId56"/>
    <p:sldId id="261" r:id="rId57"/>
    <p:sldId id="262" r:id="rId58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notesMaster" Target="notesMasters/notesMaster1.xml"/><Relationship Id="rId52" Type="http://schemas.openxmlformats.org/officeDocument/2006/relationships/slide" Target="slides/slide1.xml"/><Relationship Id="rId53" Type="http://schemas.openxmlformats.org/officeDocument/2006/relationships/slide" Target="slides/slide2.xml"/><Relationship Id="rId54" Type="http://schemas.openxmlformats.org/officeDocument/2006/relationships/slide" Target="slides/slide3.xml"/><Relationship Id="rId55" Type="http://schemas.openxmlformats.org/officeDocument/2006/relationships/slide" Target="slides/slide4.xml"/><Relationship Id="rId56" Type="http://schemas.openxmlformats.org/officeDocument/2006/relationships/slide" Target="slides/slide5.xml"/><Relationship Id="rId57" Type="http://schemas.openxmlformats.org/officeDocument/2006/relationships/slide" Target="slides/slide6.xml"/><Relationship Id="rId58" Type="http://schemas.openxmlformats.org/officeDocument/2006/relationships/slide" Target="slides/slide7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7" name="AutoShape 1"/>
          <p:cNvSpPr/>
          <p:nvPr/>
        </p:nvSpPr>
        <p:spPr>
          <a:xfrm>
            <a:off x="0" y="0"/>
            <a:ext cx="6858000" cy="9925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260">
                <a:moveTo>
                  <a:pt x="5" y="0"/>
                </a:moveTo>
                <a:arcTo wR="5" hR="5" stAng="16200000" swAng="-5400000"/>
                <a:lnTo>
                  <a:pt x="0" y="31255"/>
                </a:lnTo>
                <a:arcTo wR="5" hR="5" stAng="10800000" swAng="-5400000"/>
                <a:lnTo>
                  <a:pt x="21595" y="3126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8" name="AutoShape 2"/>
          <p:cNvSpPr/>
          <p:nvPr/>
        </p:nvSpPr>
        <p:spPr>
          <a:xfrm>
            <a:off x="0" y="0"/>
            <a:ext cx="6858000" cy="99266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265">
                <a:moveTo>
                  <a:pt x="5" y="0"/>
                </a:moveTo>
                <a:arcTo wR="5" hR="5" stAng="16200000" swAng="-5400000"/>
                <a:lnTo>
                  <a:pt x="0" y="31260"/>
                </a:lnTo>
                <a:arcTo wR="5" hR="5" stAng="10800000" swAng="-5400000"/>
                <a:lnTo>
                  <a:pt x="21595" y="3126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9" name="Rectangle 3"/>
          <p:cNvSpPr/>
          <p:nvPr/>
        </p:nvSpPr>
        <p:spPr>
          <a:xfrm>
            <a:off x="0" y="0"/>
            <a:ext cx="6858000" cy="992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0" name="Text Box 4"/>
          <p:cNvSpPr/>
          <p:nvPr/>
        </p:nvSpPr>
        <p:spPr>
          <a:xfrm>
            <a:off x="0" y="0"/>
            <a:ext cx="2973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1" name="Text Box 5"/>
          <p:cNvSpPr/>
          <p:nvPr/>
        </p:nvSpPr>
        <p:spPr>
          <a:xfrm>
            <a:off x="3884760" y="0"/>
            <a:ext cx="2973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2" name="PlaceHolder 1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 type="body"/>
          </p:nvPr>
        </p:nvSpPr>
        <p:spPr>
          <a:xfrm>
            <a:off x="685800" y="4714920"/>
            <a:ext cx="548496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Text Box 8"/>
          <p:cNvSpPr/>
          <p:nvPr/>
        </p:nvSpPr>
        <p:spPr>
          <a:xfrm>
            <a:off x="0" y="9429840"/>
            <a:ext cx="2973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5" name="PlaceHolder 3"/>
          <p:cNvSpPr>
            <a:spLocks noGrp="1"/>
          </p:cNvSpPr>
          <p:nvPr>
            <p:ph type="sldNum" idx="50"/>
          </p:nvPr>
        </p:nvSpPr>
        <p:spPr>
          <a:xfrm>
            <a:off x="3884760" y="9429480"/>
            <a:ext cx="29700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DE9B6B-907B-482B-92E5-115091CDDFD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Rectangle 9"/>
          <p:cNvSpPr/>
          <p:nvPr/>
        </p:nvSpPr>
        <p:spPr>
          <a:xfrm>
            <a:off x="3884760" y="9429840"/>
            <a:ext cx="2970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DFB90-47B3-4B40-BEDE-32927DCA066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0" name="Text Box 1"/>
          <p:cNvSpPr/>
          <p:nvPr/>
        </p:nvSpPr>
        <p:spPr>
          <a:xfrm>
            <a:off x="3884760" y="9429840"/>
            <a:ext cx="297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DBA8C-975D-41B7-A853-95A3006AB7F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1" name="PlaceHolder 1"/>
          <p:cNvSpPr>
            <a:spLocks noGrp="1"/>
          </p:cNvSpPr>
          <p:nvPr>
            <p:ph type="sldImg"/>
          </p:nvPr>
        </p:nvSpPr>
        <p:spPr>
          <a:xfrm>
            <a:off x="9493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2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78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Rectangle 9"/>
          <p:cNvSpPr/>
          <p:nvPr/>
        </p:nvSpPr>
        <p:spPr>
          <a:xfrm>
            <a:off x="3884760" y="9429840"/>
            <a:ext cx="2970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16306-3875-4295-8CB4-F85B48F3564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4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5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Text Box 3"/>
          <p:cNvSpPr/>
          <p:nvPr/>
        </p:nvSpPr>
        <p:spPr>
          <a:xfrm>
            <a:off x="3884760" y="9429840"/>
            <a:ext cx="297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A05E7-92F8-4048-8B7E-A8EDEA80AA7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Rectangle 9"/>
          <p:cNvSpPr/>
          <p:nvPr/>
        </p:nvSpPr>
        <p:spPr>
          <a:xfrm>
            <a:off x="3884760" y="9429840"/>
            <a:ext cx="2970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2F0ECB-8591-45B7-9C12-96AF88BCD39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8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89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Text Box 3"/>
          <p:cNvSpPr/>
          <p:nvPr/>
        </p:nvSpPr>
        <p:spPr>
          <a:xfrm>
            <a:off x="3884760" y="9429840"/>
            <a:ext cx="297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2E5185-2339-4480-B6DC-4C8FDF5A9C8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Rectangle 9"/>
          <p:cNvSpPr/>
          <p:nvPr/>
        </p:nvSpPr>
        <p:spPr>
          <a:xfrm>
            <a:off x="3884760" y="9429840"/>
            <a:ext cx="2970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9C682-0B97-4F18-8A53-C3C0CDA4E0E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2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93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Text Box 3"/>
          <p:cNvSpPr/>
          <p:nvPr/>
        </p:nvSpPr>
        <p:spPr>
          <a:xfrm>
            <a:off x="3884760" y="9429840"/>
            <a:ext cx="2971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7A973E-BDE5-4F1E-A0B8-B2FCD62923A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16B70-3323-4E73-8632-D43BC49B7A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E2BA7-3871-4D8C-BDC6-DCBD62119F6D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3A7FF-EC19-42EE-A8C3-4437802E176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36797-6392-4125-A79C-E9ABFF91210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A406A-1EFE-4FFC-8D17-D1DFE3F2737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52998-AC1A-4ECD-BAF3-5AF95022992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E11EB-911E-48F6-B378-B4AB3368D0D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E80E8-F656-4424-97E5-6A70133D404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69177-36B2-4191-A8F4-4818E8C9C95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95F4B-DFD7-4B43-8FE8-96169E312C0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D305C-655E-4167-A96B-35F436F668F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F8EB4F-06B8-477D-A2C8-BEA7DC5746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F32EC-97DE-4E55-BD3F-2571F53DFDF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DFBF41-3ED5-48CC-824D-C8CCF2B9233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91BDD2-30E6-4AB2-AB17-3C4AABB15BA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DA2B96-369B-4284-BFFF-E74FB92152A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1283A2-1425-4776-92A3-3B58EEF279C5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3378DE-B2C1-4449-8103-0D10A1AF618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9596DF-A514-45C0-8FD1-020A06AD0A8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D4C9CB-FB91-4C96-B5FD-4EEDE4CA458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9AA168-396C-4955-8875-B41F8530495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713BEC-443B-47C4-8852-C7389E77C4C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B3465A1-9166-4602-958C-1E142BDFA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5BB2B-17BB-4D02-BC8C-C4B5C091159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593BD8-6B5E-42B8-821A-72F4D87C666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7E557D-7553-4234-8ACE-A8533CA37EC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3C02F6-C269-41A8-A119-5B18BE3A5B1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744969-7EC1-4DAB-BDE5-F82CBD3C58A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19EC09-3517-4B26-8F7C-1362E02423D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FC71CA-ECA2-477E-8965-C2494729F2C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80AC8A-B1D5-466C-BD9A-5177DD15768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54FA50-BB0C-436E-B541-25B92CCCD72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53FBBC2-598E-4B71-8BD6-18C1B1A803C6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6E140F-3039-4305-860B-492B65C112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53830-87E4-4712-91A5-77CDE562357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701B4C-7148-4E89-8116-3D8930C6445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E3CCB5-C89E-4A4B-84AE-772117AE29E4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671F19-94BC-4269-8514-63BE97DE760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B5197-0E73-4518-A403-D8B794D5449A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97F05-2840-420C-90C5-28F40D7EAFF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7D43F-0740-42B3-9512-7A2CDB06B19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F423B-A0B7-4E11-AAF4-5C0798F00DD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42296-7482-4983-8FE7-B6F1057E785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35AFA-8BC4-4B9E-9A2B-68F542AAD55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316C5-A8B8-4900-92EB-7248D77C57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A3649-C06F-4BD0-ABBB-6950DA14DB7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6BE39-29AD-45E9-B88E-E8C37C5ABA0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8DBCA-C27F-47B8-A34D-0F1D80A2714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F9807-9916-4AF7-B0FB-FEAC0673D41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90DB7-F3F7-4557-AE0F-601B9472B6B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7DEE0-805F-4E59-AE6C-6DF39DF1F02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FCF33C-7DCC-4FAF-B947-F55004984E3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3F55E5-AF1A-490F-9FEA-50C16B3A256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8D72C6-38A4-4AEB-A3AF-6B8C63FF981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5BC2B2-475C-4B47-B23B-F19FE2A6E29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BA809B-3547-495B-A3C0-37DEC74A4E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9FD12-3DD0-42DF-ACD9-5C9DF7FABAD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C299D6-42A4-4346-8C99-8DAD89DF247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C064E1-9AD1-4B2C-A834-6508D719F37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989FF1-9D4F-4932-B9A4-003EFAED0F84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DCEB0C-F6AA-4737-8690-CD702867828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739507-835A-4BD3-A695-6D8B1D5B14FC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16BD79-4492-468C-AE6E-14288E30EE4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F7CFA5-8F99-4A72-94EC-7646DC4A294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0656AA-02E1-43C7-8914-60524AED580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A76A00-EFE0-41FD-83AD-1F45915C1FE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445CFA-75E8-44A7-A724-8ACDB38D00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A81E7-433D-4D86-8508-EC4EA34D1C12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AFCD36-8F93-4BDF-8D39-96776347922A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0BC659-29A8-4759-A2FD-A7ABA2BF6F8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7BB783-8EDA-4969-80B7-E603A8E601A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8062CB-657B-48F9-AAF7-12BBE722CD89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80BF57-53A7-4C4E-90A1-754F625A5AC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74B9F0-B187-472D-A862-B59A992BC89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EBF4FF-012D-425D-9826-92254157C69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B87C48-C043-4493-9E63-F6FC43C6F2A4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E60D3E-0F83-449C-9CAE-29E2D07BAF50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62400-622D-42C7-AE43-EEC2DC089E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C6047-5D8C-402E-ABEB-05A26159CF1F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46741-A645-4EE1-BDD2-D26653CEDC4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A6FCD-B258-4F55-B410-FB19B699D1FD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6FC5F-0592-407D-869F-0D035847C00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91433-A08A-449D-BB76-862FD158D56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EAE09-8ED0-4C00-AE26-2C087CE4D847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D5C32-C1A7-4730-B0E0-FBF5CB030C86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FA2F4-BF5C-4385-9A7E-EFF3789372D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00C55-AE08-454E-8B77-B57CCF3827C0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3CD99-F19E-45D2-840A-44EC710E53D3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C521C-9849-4583-AEFF-1F043BBAF26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07C58-2B3E-4C00-89B4-6CAD73BA163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F6F09-5111-4643-BBB3-495873B467F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CE7596-B11D-45DB-B743-2C53721EA3A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ADF657-668B-4319-A865-8A02136161E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229A8F-189D-4D8D-B65D-07F1BE66701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23B7CA-9ADA-4EAD-A0F9-877A76E2788F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0EEE31-68C6-4F49-B734-B3011E48E8C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3D9A03-EA47-4C43-8167-9B229BA97B48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CB8616-30BD-4E33-8163-519FD5BE198F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E8CF3D-05ED-4B3A-BA28-4D9A9A315BC8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3F5561-9833-46F1-A007-44CDAAD821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FFAE9-2938-4FD2-BA8D-EE07F51DBF79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BC0DBC-B200-44EF-96C3-4C96DC91434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071040-5BC1-4656-AAED-A25760C9BC1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257774-8B99-4D94-8120-3FADE134E578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CA8DC7-16ED-493C-BD1F-3783705BBDF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40C31A-049B-40E5-8C88-5741D607721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B0203B-828C-4BE8-B9C7-F51C160E6311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4DFA6E-D496-448D-B057-3855E4EFCD7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30AF3F-E061-43DF-AF63-8CE45CD11A0D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0EF0C3-D658-43CB-B372-82156AB8B164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8C14F7-945B-46B8-9122-5DAC2EE707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8208E-9235-4A84-9AFF-2007C7657F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65ABE-B6E1-4B0E-B43B-52EF19A8FCB3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61E51C-C479-45FB-A7C2-F0204574A97B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44F274-C830-4081-B521-8D99B325DEF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BE356A-2FEA-486E-B3D1-34C7D3547C8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779335-A9AA-48FC-A39F-00BDDE67002C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6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7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ACF40E-D0DC-4673-8D58-6A9D130F4E5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3F171-1E6E-4BE6-8464-98C93A7DEAF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841C1-B4F9-48C1-BD6C-83172A49A449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1AAA5-F22E-4331-A8A3-B8E1479D3B40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B22A3-B813-418F-827F-15A0B2FF2019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3B580-C97A-45BF-8CBE-57D28CC29C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9093D-2170-4676-9092-070A86E4DC0E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96981-1A0C-4A0D-8E8C-1CD6B5E5F7B2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83B29-A2CE-444A-B773-61B6D8A8658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4977B-4FA9-4375-A5C1-0EF88FD6467D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9FD9FF-471A-49AA-A248-D13A48467DF8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369A0-9A99-4F00-8701-4E36F71A615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81965-72A3-461F-865D-E5330C6BBCC9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1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664C1-781B-4851-B833-09AC82D9C41B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121378-D2A9-46B5-814E-2DD71EE282CC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D81EFB-CFFB-4CF8-8ECC-8A890CA39DFC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512B50-6818-4EF3-94E2-CD0433BE56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B2790-3815-4AA6-AB1F-6391E481D4BC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40E0D1-35ED-4595-8C08-F1F515C6274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FED0A9-80F8-40F6-B6F4-12E7C872075E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821F19-5E2A-4B80-961E-C9CE24171DCF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0DF29E-1E53-4D54-AF65-550899096EF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E1A1210-18B7-45E9-922E-8E0C17911A39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DA2710-7FB6-4D64-A0C1-9C654A048507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1E6D30-B42E-4001-9905-D55B2BA4E31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986D501-9D37-4498-96F1-134774FF11D9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644C32-DB34-4D57-9CFC-41791B8FC2DE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27CA5C-D835-4DB2-975D-6D7A62AC29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BC9EB-D030-4BE2-AB64-22AB86183E21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DFAD28-BFD8-45E7-99AF-F55B837056CC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91E6FF-2143-40E1-84CB-F51B17063810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B46CA2-85F0-46A0-9DD6-0B545D1E416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170D39-33A8-4DDF-98F7-407A4C4F01C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405C89-7081-43CB-BEC5-AA2E60F4BF9E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EC950E-5E90-4FF4-A855-AC9D7593685F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690734-3E8B-43AE-B0AE-55EC6A2D8DAE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2C690B-E696-4054-83E7-407CE496C172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29EA16-4C9B-4062-9876-E9DD21FF19C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1EE7FF-8761-4CC7-9C3C-91BFF029CD9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8F3C3-2C25-4F21-A368-5C8EFD63D0A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8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9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BB3AA2-507C-4AA1-A346-62524C1F083A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C38E9-3DD3-461C-AABB-86432567F6AE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4CAB3-0BAC-4BDB-A82E-410B660F753B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71643-CD8C-4F2B-A73D-9D301D1CC8D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5DD81-6928-4B29-9052-7BFF35B3838E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C7603-56A9-4BBF-8A45-441C374169C9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B55F9-050E-4FFA-9529-BC3D29D9198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6D6F2-D7D7-40C6-9B8E-2573E016DB10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6AA220-0A8E-45C0-8CB9-5DF852A7B3A6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FBE27-271C-4E1F-B730-05C438B2DC5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3635-6BA7-4ADE-A78C-7EA4664C8619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DF9F6-578B-4D19-956C-C85C81A17D24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F5169-D4AE-49F6-8947-FFEF61F9419D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B0F7F-1CE0-4391-A936-D1F7702A2BFE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9E1B48-D186-4AE7-BCFC-77DBA35F976A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4E6C43-ED03-4921-848B-FD55BD424E87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92DB9C-BFE7-4BEF-93B7-CAB46023B40B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FCC19DE-60BD-4819-989E-FC9E260361B3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CF6616-0357-4B5A-A5EA-CF262661F36C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FCC95B-CC52-45F7-BE66-20D7C9A72F0F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6C56B4-8575-4A50-BCF9-2C5D205C784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9A82-5063-4BD0-B652-147C799031B5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601CF5-2462-4A9A-A9FD-68148E391993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873121-41E8-48E3-A46B-9C7419A98D31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B61D45-41D8-4A9A-AB15-C3E02CCBFCAB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D9426C-4100-4C8A-A853-83F8F5104DA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5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6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7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F10104-7E0E-48AA-A4A3-30B52261D920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FDB583-AE8E-4D37-A584-0C2F281E6EE4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FF5CB0-F886-4388-8F4E-8A744D582B5A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BBFECF-C095-40BF-B1A6-5763AE2B12AD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2767E9-9109-4C9C-966E-A01692C58980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2BA353-E37D-48A5-AF75-A54F3A9796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1E95-B532-48BD-BB05-20FB480E6F7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6468CD-D45F-4938-A115-3755244F991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F2127A-3245-42AF-A436-2FE2AFFEAFDD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B19C4D-E906-4474-B396-62A7AF90BB4D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00BDEA-EA9F-4994-B349-2F530746EB0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90F704-5B18-45DC-90B2-B46F311B55EC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4FA919-61AF-4FD1-909A-7085B0BB203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B9EBE10-02C6-4D65-AE3D-2D01DF53D809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E6D023-4FB7-40F7-AD80-D7B69041DC17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1D3CC-604C-4260-B270-3218C46C0AA7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960D7C-8A81-43A4-8C01-9A5BB6BC59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2A71-C584-42B2-97EC-943D72A784E0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D6620-707C-4E06-AAA6-516DA92EA4EA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DD766-2C02-47D8-BD98-114A85B99D5B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523AD-F65C-4998-BD9D-B23804940B5F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E2AE7-0BAD-44C2-ADAB-32BA5D4A02DF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01545-D445-4DF9-BCB4-00B1E4B28B96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9AEBF5-1A19-45CD-989E-44F8E16D638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DAC3E-B233-4B70-BEFF-A3348095681B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12052-EC3C-476F-AB66-78C2AC43612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952FC-D3D4-42BF-8BD3-950753BEF16A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EFD55E-A36E-4B6C-B88E-75215A224E5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5917-C7DD-4953-8BEE-BDC932CE59A4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5DAF97-6C31-4847-9774-1109154EF23C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32706E-8DF1-4D4F-B9CC-274A6253AE11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FDFAE3-2C5D-453C-8488-957E091F597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EF3D3F-87A0-4BAC-A47E-16FB41A31DF4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9CA09F-12E4-435A-99E6-3F81E9E20D58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80C1DB-B31F-422D-80AB-69DAE9274A42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E3F09C-6A4B-4DC3-9375-E42912FCD5A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1D9D5F-A4C6-4A0F-BD6F-51B30AB646C4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5A744A-1BAF-43DF-B9C2-441EFD7EC3D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348685-C1D6-4F83-838B-551B5DA7E7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97E74-7920-4181-8939-E0E2454BD0B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16C2-ACBD-4D1F-8C2C-3B65E6F727B4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8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9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5938C0-32C8-4723-8308-478DFEC8D8D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D8DE99-65EC-4D61-8200-480C84DF7A13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8DA6FB5-A3ED-4558-BC3D-92E3CAD50235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E2D585-D44A-4156-A601-4095243BB65A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FDF6FA-B304-415A-8E0C-DF15444B3193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1A271C4-B0AE-4C87-9B80-1618CBA376CE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3B6A4F-7E6C-4401-86C1-84201028F5FA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5573EA-4F6B-4620-A646-8B9A743A678E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0DF54E-49F2-42D8-9FE2-BF526761B9D8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CBF921-131C-4EE4-952D-E3F31F39E2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DC6D-A23D-48DC-8B7C-63A3DFDB9BAE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7F48983-B756-4267-8327-82374B6AC1CD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C96E7D-ECB4-4824-A62A-74B0005ACFA8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2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3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73DE42-9D01-4141-98C8-C8D4DE6C9C00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DD90D-9959-4B09-B103-83E8E29082CE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76452A-2206-4D83-BD5A-905DE0139B14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F4C9B-131A-482B-9C00-5CA5EEC1E5D3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723730-07BF-412E-9D0F-14D672C988F1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67DDD-2A7D-4FD5-A349-B69A06A30EE9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98B1AB-76C5-4E95-B1EB-C2E892923583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E1AEF-7257-45B3-93E0-DFFE3301D7A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7638-3E40-4D9F-B4E4-AD9E00F3CCBA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46BE1-F226-4873-9953-8A42AA7FBEC5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803D8-0E08-4321-9A43-2658741EF30E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09B80-4DFE-4F15-BE6D-7837333F8A60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0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941D0-5E21-4F36-A967-96E6299B28C3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6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7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3BDAB-3648-46B8-86F2-E8AA25C3542C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39AA27-1FF6-4487-9C49-CEB927396D9F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6A26CD-7E8F-4415-9300-3D992412ED13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4649F9-C011-4870-AFFE-FC1E86672CC5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53E4AD-A548-4983-9AD1-2CEE86581CA0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E1B1B4-805F-4311-85F4-761AB712FCA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C15D-A619-45F9-AFED-A2CBE616F831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A1CAFF-F418-41AF-801F-C61859F6AC48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A26F0B-5902-4CA0-B1EB-BF93C26E5E7E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786535-2B3C-4777-8B71-0DDE586A3473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F516DA-4CA3-480A-BB78-3DEB11A3169B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41CFFB-389F-42D1-8187-4EB5330F2083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525A1A-2874-459C-B449-1CF7516016FC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C054C2-32D5-46C7-A782-784CE7A519D2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96FE1E-4DDC-4A46-90D4-112644D81133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58CA2D-A8FB-416F-96E8-F0D38C1A98F4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E104B4-6E33-45F9-B16F-77C642C7564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7C3F-397F-48D4-ABD8-8CBC4E7D78D6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C55EBF-B6C7-4FFC-B030-0FFA310B7F28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5DF81A4-B6AA-4F36-A977-B57F312CEDE8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B4B276-308E-4372-8D7D-1516FBBA3AB5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566175-251F-4416-9D38-45BC41949D8F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31C955-9E3D-455E-975A-D51958A01B72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85B5C9-AB16-4ECB-A457-8F6C58582D63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82DFEE-B883-49A1-847D-77A89DE2AA69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290A2F-A859-4E4A-B5E4-89E4C9021C3D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DFF5C3-3A10-46C2-98AB-AA160E0DB987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CB0A9-2AD9-4FAB-A36E-67FE19CA396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E7DD-19D2-40E8-AC33-4996C85DEFCD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DD64C-8B0D-4D81-A844-D5174436B6AA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A26F3-53AB-4BB1-9BC5-E528F267C220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ED6AC-26A5-47B3-B370-300B327E0E81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C8BBD-5052-4FB5-B674-D108A25CF9F1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F4614-AE96-48D9-8F37-579EA2D8A329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E09C7-AD82-4D5D-8CF8-326FF1EA16E8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BB4730-1AC0-4FA6-9AB5-B9A1FFD9D100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03F8E-BFFB-4FB0-8BFE-B401239F4AB7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79E35-F567-4980-B679-15741AB92432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42F26-5DB7-4D69-AB64-FB8DFBFF706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2CDB-4DBE-42AB-8F77-C40B9E78B958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8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9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2F922-2E82-4171-8ADF-1A27455CEDAE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9CF629-69F4-463C-BC67-A173E7BA899B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4E124B0-F252-402C-8E7E-7B23F9B4DE04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11B4354-EA4F-4229-B847-49BAE2A32247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FB5AA1D-6BBD-42B0-B8C0-B9E531C3AD35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F928681-C748-40F0-BB0B-BE996A531456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420750-4196-4056-A6F0-57B6E64F10BA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55EC524-F3A8-4BFE-A7E5-AA2A6BA81BD8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3081592-4654-4810-84D8-215E9087B57F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414A80D-BE35-43C5-99AA-B6D87CAC994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5A6994-4825-49F1-AE6F-8210737908E3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916ABF2-7622-486D-BF24-B402351794A1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729069C-432C-47C7-86DA-0E54A3CFB444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2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3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1DD8A8-2DBF-455E-9FA6-4F67B076C2AC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432868-B791-4E28-9AA7-BCB62F3DDECC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CCFF2F-FB79-4AF7-945A-2691B77FE568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2C8315-3157-419E-B154-3C55F83E2A8D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2BE50B-B56F-49A0-8A7A-82E018F1BC7B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EB73174-CAB0-41E4-B7A7-A0488C6ADE07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D6F18E-D8D3-4C84-82A4-23C2655DA446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46C8DE0-4D1C-41DC-B8C0-90416CFFD00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3D669B-B9D9-4E09-B32D-7A83BF2F623B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C93EC4-A451-4E8C-921C-D52A0124529E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83DAC71-16E8-4ABE-824B-92C3326FA3D8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0E330F7-0665-4DE2-B847-7928556DD940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8969737-033E-47D7-AF56-2367A2721F80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5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6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7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9D2A53-BD56-4983-8928-0DB9F6A33924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B7199-2644-4BF2-85C3-6084F9619D93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9C86C-D6E8-4074-9CD5-B4F3A33DE145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0BB70-8EA5-4E4A-A2F5-F2DB1C094789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EE43D-BCEB-4A01-AED3-DEADAAF9A11E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AC086-209C-4243-BF68-CFBC9CFD998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EDB86-034D-476B-AFB1-44E9D0ACB7D3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6BEA71-710E-48B8-9192-E5AFFF10A91B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27EA9-E73B-4DD4-A776-7D6D7CF0CD79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3F9CE-0607-4F20-A647-3547201908B7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B72E2F-F95B-487F-8F32-B808A5DC585B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97E54-6D66-49E8-BA90-F5D240EDEA8E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AC4C6-E781-4145-8753-BC3DC5F4E646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9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0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1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A446B-EBCC-490D-9D1D-D9D06E6039D6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71E762-64F8-4735-8288-AD6C065CF1AB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E92A5B-3D0A-423C-BBA9-5D13238CFA45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EB416C-4388-41E3-A7AD-4D8974F306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C036F-8A79-4459-B9AE-8CF1FA28BAF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3A074-4F45-43C3-85A8-C3B3CF6026C7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2AE3FE-BBB1-4CFD-86C7-58E8C3A700D1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BA6128-3604-450F-9E2F-669E38371812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C0C079-34A4-4833-959E-38372737349A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7AC1E0-AD9C-408B-BE4D-D429D6794086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CAF294-DEFC-499C-BCEE-AF4762F7E12D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CB4B09-2887-4559-95DA-73DC783B818F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C45B3F-16CE-470B-917D-5C47E788502B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E3F99E-8474-44EB-BB95-E3C6685CB72D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3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4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5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635629-EF4D-448C-ADE2-A52B1A60F42F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90A343-6848-42AE-BC6E-B346CEFF2C6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215543-11C7-4944-A917-92395E7766A3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741803B-B7A9-4B7E-A04D-949794398E57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44F2156-1200-4C90-B6B7-CAA73437959F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847596-4C66-4FFD-BADB-07F71C5D0936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6E7AE41-BAB5-481D-83A2-F8D39CAA06CA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AD7EB4C-AB60-4198-A131-03421C6C0695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4E351C-C451-4FB1-81CD-02F5A102A8BB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01CBD4C-83FD-45A6-818C-EC9697C2B8DC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80D2A97-68F9-49DB-A200-96FC08E9595F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62BF50-CA23-4827-8E10-D206FFDD0217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9371E6-08F4-4FE8-A57B-931D023AAB7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F9F85-4A2E-406F-B723-98A4B7A3ED1C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7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8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9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8C6B85-DE50-4A08-A9CF-A6B242B39877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67734D-1CED-43A4-9179-16BE165A0290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9B1B34-A8CC-4EC8-9E6F-078EB9355EA9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0C6745-190E-47E5-A35D-8674C78C77CF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9295FF-53AC-4367-9E51-58C9C977A7F6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CDD901-B7F5-4237-BB0B-49060B9A6635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0162E1-2A16-4C31-8058-56D6A0D2248D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09C31-7A45-4045-92A8-02A4B15B7E9F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2388BF-4A42-4E3B-AA18-67E4F13EF3E6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B1330-B69C-497B-B80E-1D55EE6149D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5654E-0146-42BF-988E-7CA91169E944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E685BD-E521-4E93-A02B-536BCC38F2EF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2895C-BC32-4FD8-98A3-BEF6FC9CC437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2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3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4BBA26-C883-4B38-A876-2FFABEAC6530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7E2740B-2782-401F-9ABD-04FDB575C029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9B20796-214A-4DA1-B532-1E149BB6D92E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5402862-FECE-411B-ABD7-9EF7DF7EDC38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7753242-7D00-44D2-81E1-58FBE9B57237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799830F-BA00-4B89-8DFE-5B75EB3DEBE2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432AEDE-ED7F-4D8B-9A3B-565AA65234BE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BCA9967-73C4-44EB-B8E4-8FFB766425C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4FDA6-4683-4098-9989-99EB0B642526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49D00FB-149F-4487-B445-A2DE1447F4FF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5494CE7-67C3-4298-A950-4B7D7ED56135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DC7438B-B83E-445A-A6AE-CDAF7B1B0AF5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AB8E6FE-254A-4B73-B437-2A67A70F15EE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835F3F9-4DFB-41F5-A4E9-C2A9D2E3A17C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3C9495-DBEC-4DFB-A29A-05D4156B9060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E1EC455-D2FB-41D0-A95B-33ADF5BE37A0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F3FDAC-986B-4986-8EC5-DA0B611E9D5E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C2771E0-7BD9-4251-8240-7A69516BFB37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5681E7-1D2C-432A-990A-AE807F2AACA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6C956-636D-43BE-975F-845612047B64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DB95E7-81A3-4E85-8775-15953B634DC3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DC89047-5D93-4598-9F3F-CA76AB3B3440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EB8772B-B642-40EF-A1B5-C00F78DD3982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FC2D650-CC59-450E-B292-C06A3B25613E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A8FD18-7544-470D-BAFB-49C545D4BA12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4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DB1A759-5D36-4A26-B3F8-6159CCE37672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9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0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1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C1678D-8D25-45DD-B98D-0DD537BA17D8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F1D47E-219F-423D-A260-67397783E15A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60019D-B5AE-4CEB-84CF-461B5EC3B4CE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1F1A32-2E0D-42FC-BA75-1C219F84249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696312-37E0-446C-831A-9B3C7E56832F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E600DE-4C64-4C67-B989-B11A01059375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3771AA-8CD1-4D2F-B250-4F2428BEE61F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41E87D-3189-4FDB-B1F6-DB2B4CEFAF79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1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2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0AD42E-2CF6-4D11-BFCF-310A409101A8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A277BD-535A-43E0-BA76-BA6704916BF9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636D67-C9FE-4F25-A8CE-EAD4B9F776CA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0174B5-E827-4ABC-9898-83C96C8755E0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94523A-A531-4230-B54F-F8544B48CE4C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4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5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646C5C-3AE1-4F15-BB03-0C2C9FC21F88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77C7345-4678-4611-AB5A-E8D3383EBB6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AFD07-AF8D-4E80-9C2C-9B1B9B6EDC03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011FADD-04EF-451F-A2D7-6507BC962777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F57916E-D578-467B-BAD8-15139B78C433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5D30C82-9224-4520-B9E7-B06B15DA8849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48EEDD5-5B79-4347-8D90-8EDF973D9131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B4193DB-D04D-421B-8AE6-26B89C0A4450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E125011-60FA-4283-9A44-F785A9D9A78E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CFB1531-034F-4076-BCCC-C837CFA5D3B5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80DF5D4-97E1-4CEE-8928-A25BEF17DFF3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0816E00-0687-4332-97C0-33489248767E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2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5614CF4-0045-4DB3-9E20-3537AB18D1B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B62902-2151-478C-81E9-EF9866A75F63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8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59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B0EB661-1095-4594-8309-10FD803CA3EC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29690FF-F44B-4A96-A6D8-41AF87970A5A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01A84A8-4FAA-4152-9405-7EBCB96C7FEA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7095B34-81FF-4670-A21D-64ECBC9963BA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F2574AB-BD93-46C9-9A96-A6F04CC5FA3C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60D70FF-DCC2-4F54-92DA-96FAAE1D684A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D72BE48-A29E-4C22-9099-64F470134CAF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39157A9-CC5E-4368-9625-494E75886703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846C205-0302-4BC5-AB2D-9C7E28E36767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332E173-B1EE-4B06-BCC1-CDD6C53B82D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EDBCC-4D67-4B11-93D4-1510D895596E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033B5BC-C26C-4F0C-83F1-7857A85609FB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E1829C2-E203-4369-A56D-DE053C214F57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A3750F1-39CF-4EB6-9F5D-6048AF5437CF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78CFF4-5913-41D1-AA60-B63C9BF3D2F6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A956A1-1C61-4EBC-8FEC-63C8CBA9C6FA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69EBA2-D0E2-4444-904D-60C3FB4EFBA0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6A8C8C-A50E-4998-92C1-9FC13EDEBD87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99B9AA-249E-4F22-9D53-EA5CF9EFCE48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45810E-FEDC-4476-B51B-02C4F25CA9CB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4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38A4A8-14C9-41E3-AEF4-7865039468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7526B-9D92-4434-90F0-6DCE4AAF9F7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2BDEBC-8FED-4411-BDF3-70CAC8AD94E8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7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8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3053F0-8E1F-4C6F-B000-EA48AA5EA2EC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1328F8-CC72-4EE8-BFEE-60792F88F48E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14CA91-D9AA-44B8-800A-D2F0A2511C53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E401C2-1B98-4489-83BD-868C664FD1F5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3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4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5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6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7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5CDFAE-EED2-44EB-B00E-2445724939DE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E916DB6-2440-4C0B-84B1-A3E789C523FD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A3C8321-3CFC-4977-8FB3-0DEDF0C9E1F2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1A344E4-8148-45C5-BD6B-CCEEC2AD036C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620EED3-96DA-4AF9-B4DF-844C8EB9DDC2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D7E6B06-6E37-4859-B8B9-121800089C1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E46E2A-E67C-4164-82C9-1E4BC7D3C0A4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9C942D8-B8FF-4EE9-81BD-9BEB3690D662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5184E74-BEFD-4AC5-B5FF-E7DFAB99E817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2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D9435DF-D965-43F2-A7F0-E0E2867699F5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E429F7B-AD5A-4DDE-91DC-E9722F2FD312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A037587-FCA2-46DE-90C9-BF1625438D6E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2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3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4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8DE8082-5C0F-4A4C-ACE2-51790D6FE028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9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0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1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E21FA84-EE54-4C80-8E8B-31F6E3811007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06DBF00-5EBF-4C1F-8AE5-1A1C1155D4BC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19B2899-8D4F-4E5C-8433-430E69225EB0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2DDF958-D731-4030-8480-1834B119328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B5B4D-E937-4F6C-A259-14B261678501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967F8F9-375B-40BF-A673-A0ADA0C69A8B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AEF0344-ED96-4BA4-873F-FE7F14CA4DB5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3FDADF7-A21B-4B79-8FA1-56712C488B23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F4D7B70-FCE7-4EDE-8A9C-FDBACA8EFF0F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E7531ED-C677-485D-BF55-971BA01DD814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F8A1526-986D-4F4F-B705-AAE294BBA29B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DCC3D85-818F-42B8-90FB-C0B12069150A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6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7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8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8C5FEBD-91BE-4E07-893E-2C3B4180C4E9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3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4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5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CCF9DA4-89C5-4751-995D-9DF1170CF4FA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5C9085-5190-42F7-B397-AB8A6A42684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3B55C-D2E2-4FAB-ADFB-B9B8056227B4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53DF5B-F6A7-44C4-B7AD-B0160525686E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03EF89-BA98-4562-B65E-B9F2FE71ED08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CA5CB2-2666-4292-954B-9FCB04198D7D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B434F1-1548-4A30-A21F-3650F68EFE2C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FF2442-2058-489E-A15B-8C0542D95B2B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6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5CF073-097C-4B4B-B89A-224E4D7E6636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0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8A9188-FC4D-4E63-9140-81FBCDCB6D64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FE9B5B-2168-4B9E-BBD9-AF09D3F8FAEE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965EFF-9CBA-4E75-901C-CBF2D68BBB9C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FAE8E7-0664-4068-B546-C0D405D6870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5A5B8-4C17-4289-AE2F-5B7467005804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6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7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8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9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29E817-A302-4179-B684-064B265EC2F2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0FE7599-3FD9-4CC4-8D86-7192D7619C79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53DFCA1-91F9-4876-87DE-75038B4268DC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6D15AC0-9E4F-41CC-A155-1E8B3BFD68AD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0ADD162-CAEB-471E-A10F-7C12E5797DFC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0DE710B-0BD1-4B2B-AE3E-418469343613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9D922D3-8B43-489D-8288-4C897F1E4134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A181BBF-7FC7-4040-A263-2494570BA278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CFAA7E1-4F80-4EBE-9982-4157245429B6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8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8D04092-3396-4AA3-A455-B710C914CF7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055682-27EA-4DAC-A703-EFDCAC9853A6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CD998E7-BE86-4B84-84C0-55B712AF6BD2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6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F9A8EF1-F2CB-450C-A54C-FA38F56F30A8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0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1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2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3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2626491-E254-4CFC-AA00-468514DCBE3E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F1AD438-A144-4DBB-B92C-41BC6D869E79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5A52487-3D53-42F8-9E47-C543FE4FFE9C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63F34CA-8CEC-483C-9FF5-0509600BCA63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C2E31B6-19CE-4C55-B76C-421DA132E4FA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B754976-B031-4581-A547-44E72B5D8811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9BD63D0-E332-4013-AB45-97B24C1FB419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9B4C916-0621-4BF4-91E7-4AFAAA89A76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7E3CF1-AA37-46F1-826A-D14101EEEAAC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85007E2-BE7A-403F-95F6-2F022CCAB599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2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50EA5A7-D294-4675-8C62-475E35428337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AA27C67-D52E-4B47-A872-DFA7B7B24B06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9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0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AF1D9B4-A93E-420E-A093-3C40581D0E73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4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5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6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7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6F7CB73-3E6E-4A14-96E2-10F3CB66D6D0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68FF62-0AFC-40D5-B9EA-598B40FA8661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702B30-8953-4406-A3B4-379EB961F13E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8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9D8EDE-B146-40A4-9EA3-265B9389DB1A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325686-CF2E-4BDB-98C9-B9ABA2A09857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BB4814-7FE5-4A7E-9B4D-4027B419989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BF04E-5159-44F9-A7DF-CAFEA65A6513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2E40143-099F-4312-A4CF-0EB3AECEC973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7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8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B58474-7D9A-44EE-AD51-FF878E089379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0A9C5A-2C67-4E26-A3BC-3211A3380C78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5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6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65F0AC-7634-4136-ACF1-516294D089D8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9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F492DD-E4E8-478F-AC9A-DB2E84D4E04D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3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4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84A72B-8F3D-4A83-B473-C7F63B702C5F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7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8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9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0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1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E12CF9-28A2-436C-8EB0-B7672FEC8FCF}" type="slidenum">
              <a:t>&lt;#&gt;</a:t>
            </a:fld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A81E03B-14AD-4698-8AA9-8610717CB133}" type="slidenum">
              <a:t>&lt;#&gt;</a:t>
            </a:fld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336AF54-455A-4A59-92B4-5CBA055139E3}" type="slidenum">
              <a:t>&lt;#&gt;</a:t>
            </a:fld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CD9D702-6A63-4B0D-A696-26D3C8E8877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DDE01-3BC6-448F-BA3C-D840884EF9BE}" type="slidenum">
              <a:t>&lt;#&gt;</a:t>
            </a:fld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6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6B439C6-52EB-48AB-886E-A38D1EB1FB63}" type="slidenum">
              <a:t>&lt;#&gt;</a:t>
            </a:fld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D5B6BD6-6BB6-4682-ADC3-605C272AC480}" type="slidenum">
              <a:t>&lt;#&gt;</a:t>
            </a:fld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69A7FBE-D82C-41DF-AE28-B0085005F6D3}" type="slidenum">
              <a:t>&lt;#&gt;</a:t>
            </a:fld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2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F506B48-2771-44CE-B83E-BBAADE7D6976}" type="slidenum">
              <a:t>&lt;#&gt;</a:t>
            </a:fld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6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6A5FFF8-3E94-4473-80F1-7AD6FBABDA69}" type="slidenum">
              <a:t>&lt;#&gt;</a:t>
            </a:fld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9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0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56FD8F5-2096-434A-8BD6-D04426EAF5F3}" type="slidenum">
              <a:t>&lt;#&gt;</a:t>
            </a:fld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3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009E342-076F-4712-B91C-9D6C2D4CA98D}" type="slidenum">
              <a:t>&lt;#&gt;</a:t>
            </a:fld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7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8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DC92300-EB9C-41D3-B6BA-0022CAAF1962}" type="slidenum">
              <a:t>&lt;#&gt;</a:t>
            </a:fld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1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2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3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4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5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F14B5B6-73A4-48F0-9EE9-F4B72E43817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8604E-FF11-4F3B-A91F-F539EA64D1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EAAF2-C524-4137-8CEF-B844621D738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395D0F-AFFF-427A-B306-7A895CE98A4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1CF2-37E4-403F-82C4-03E6ECC19DF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7A6A-F7EC-46E8-AB61-2A03A1E51BB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5A68-2DD4-4FD6-BC9A-F762FD84BDE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2EEE-DAB3-43A3-94BC-A28E96CDA25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30A1-5D1D-4BA6-B490-E7D75639547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7BA4-2BA7-4B29-BBEF-1C7BEA71B19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8DD09-9500-4B4A-BFDF-5321C12A3D3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DCCFA-F6FA-4E0D-B28B-6F52C88FC3D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B6F2-9D5F-4B7F-BA50-4B7B112A44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49662-4CC4-401B-97A6-880E1EE05D9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E490-4A81-4C49-BB44-4FCA1B7B459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7EDE-EAE4-4820-9922-383C91D6C97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8A7B-0733-4324-8958-E4E37319A57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524FBD-99DB-4B6E-B4FB-2E70F0DA19C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7A0465-C803-4AB9-B489-8E2C33C33E8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F12BD2-5922-46BF-90BA-50EF0331FC2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B6DDD0-31C5-4F70-93A0-01CA3423B33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C55890-4AA8-4AA8-9536-1C7C3F62B93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7340A6-8583-4AE1-B270-A5782916867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22D1C1-B3B8-45AC-A632-9BF98A8A6F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71D33-F53C-46C2-9A50-C82C91CEA82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A0838E-7CD9-4475-8D18-9B0D971AE71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C84146-F97D-4113-986F-851907CD5B5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6C4FF0-6D87-44DF-A432-3A9891B861E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AF31A8-949C-4ECE-8F32-0C5A28DD8D9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1500E0-8BB1-4E19-94A4-25C0EF0E747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DA0DD6-12D4-420C-9B28-3236AF94FC6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AA453E-7D4E-4829-877E-08392519B01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438F49-A6AC-4C8E-90B3-E3FD21088FF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B282CB-52E7-44B2-ACC6-BF4513D9C2B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1BD382-C5DC-4D9A-982C-E675079FC5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7A3BC-B1C7-401B-9A1D-227A9C8B18D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61520" y="1339560"/>
            <a:ext cx="49006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F99C88-CC7C-4985-A6DD-1A7EB0E31E3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2109B7-AC2D-4E21-87DE-FC3DF261C4F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25871C-94CB-4E85-89CE-D243D7DF289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83B065-A215-433B-8CBC-D20728832F9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8000" y="4334760"/>
            <a:ext cx="48942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737E92-E5F5-481A-8668-30ACA94AFBB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2976120" y="249192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800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2976120" y="4334760"/>
            <a:ext cx="238824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FCD419-ADCC-4CB8-8197-5628F814D9B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12292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3777840" y="249192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800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212292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3777840" y="4334760"/>
            <a:ext cx="157572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543BD8-0EE4-4FF9-9A5B-5CC7FFF3F4C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CCF86-47D3-4853-9131-FC538A33FB0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50AB5-EF2F-432A-9A81-A504E607B3A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E345D-FE36-44A5-98BA-AC130EE374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3.xml"/><Relationship Id="rId4" Type="http://schemas.openxmlformats.org/officeDocument/2006/relationships/slideLayout" Target="../slideLayouts/slideLayout494.xml"/><Relationship Id="rId5" Type="http://schemas.openxmlformats.org/officeDocument/2006/relationships/slideLayout" Target="../slideLayouts/slideLayout495.xml"/><Relationship Id="rId6" Type="http://schemas.openxmlformats.org/officeDocument/2006/relationships/slideLayout" Target="../slideLayouts/slideLayout496.xml"/><Relationship Id="rId7" Type="http://schemas.openxmlformats.org/officeDocument/2006/relationships/slideLayout" Target="../slideLayouts/slideLayout497.xml"/><Relationship Id="rId8" Type="http://schemas.openxmlformats.org/officeDocument/2006/relationships/slideLayout" Target="../slideLayouts/slideLayout498.xml"/><Relationship Id="rId9" Type="http://schemas.openxmlformats.org/officeDocument/2006/relationships/slideLayout" Target="../slideLayouts/slideLayout499.xml"/><Relationship Id="rId10" Type="http://schemas.openxmlformats.org/officeDocument/2006/relationships/slideLayout" Target="../slideLayouts/slideLayout500.xml"/><Relationship Id="rId11" Type="http://schemas.openxmlformats.org/officeDocument/2006/relationships/slideLayout" Target="../slideLayouts/slideLayout501.xml"/><Relationship Id="rId12" Type="http://schemas.openxmlformats.org/officeDocument/2006/relationships/slideLayout" Target="../slideLayouts/slideLayout502.xml"/><Relationship Id="rId13" Type="http://schemas.openxmlformats.org/officeDocument/2006/relationships/slideLayout" Target="../slideLayouts/slideLayout503.xml"/><Relationship Id="rId14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05.xml"/><Relationship Id="rId4" Type="http://schemas.openxmlformats.org/officeDocument/2006/relationships/slideLayout" Target="../slideLayouts/slideLayout506.xml"/><Relationship Id="rId5" Type="http://schemas.openxmlformats.org/officeDocument/2006/relationships/slideLayout" Target="../slideLayouts/slideLayout507.xml"/><Relationship Id="rId6" Type="http://schemas.openxmlformats.org/officeDocument/2006/relationships/slideLayout" Target="../slideLayouts/slideLayout508.xml"/><Relationship Id="rId7" Type="http://schemas.openxmlformats.org/officeDocument/2006/relationships/slideLayout" Target="../slideLayouts/slideLayout509.xml"/><Relationship Id="rId8" Type="http://schemas.openxmlformats.org/officeDocument/2006/relationships/slideLayout" Target="../slideLayouts/slideLayout510.xml"/><Relationship Id="rId9" Type="http://schemas.openxmlformats.org/officeDocument/2006/relationships/slideLayout" Target="../slideLayouts/slideLayout511.xml"/><Relationship Id="rId10" Type="http://schemas.openxmlformats.org/officeDocument/2006/relationships/slideLayout" Target="../slideLayouts/slideLayout512.xml"/><Relationship Id="rId11" Type="http://schemas.openxmlformats.org/officeDocument/2006/relationships/slideLayout" Target="../slideLayouts/slideLayout513.xml"/><Relationship Id="rId12" Type="http://schemas.openxmlformats.org/officeDocument/2006/relationships/slideLayout" Target="../slideLayouts/slideLayout514.xml"/><Relationship Id="rId13" Type="http://schemas.openxmlformats.org/officeDocument/2006/relationships/slideLayout" Target="../slideLayouts/slideLayout515.xml"/><Relationship Id="rId14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29.xml"/><Relationship Id="rId4" Type="http://schemas.openxmlformats.org/officeDocument/2006/relationships/slideLayout" Target="../slideLayouts/slideLayout530.xml"/><Relationship Id="rId5" Type="http://schemas.openxmlformats.org/officeDocument/2006/relationships/slideLayout" Target="../slideLayouts/slideLayout531.xml"/><Relationship Id="rId6" Type="http://schemas.openxmlformats.org/officeDocument/2006/relationships/slideLayout" Target="../slideLayouts/slideLayout532.xml"/><Relationship Id="rId7" Type="http://schemas.openxmlformats.org/officeDocument/2006/relationships/slideLayout" Target="../slideLayouts/slideLayout533.xml"/><Relationship Id="rId8" Type="http://schemas.openxmlformats.org/officeDocument/2006/relationships/slideLayout" Target="../slideLayouts/slideLayout534.xml"/><Relationship Id="rId9" Type="http://schemas.openxmlformats.org/officeDocument/2006/relationships/slideLayout" Target="../slideLayouts/slideLayout535.xml"/><Relationship Id="rId10" Type="http://schemas.openxmlformats.org/officeDocument/2006/relationships/slideLayout" Target="../slideLayouts/slideLayout536.xml"/><Relationship Id="rId11" Type="http://schemas.openxmlformats.org/officeDocument/2006/relationships/slideLayout" Target="../slideLayouts/slideLayout537.xml"/><Relationship Id="rId12" Type="http://schemas.openxmlformats.org/officeDocument/2006/relationships/slideLayout" Target="../slideLayouts/slideLayout538.xml"/><Relationship Id="rId13" Type="http://schemas.openxmlformats.org/officeDocument/2006/relationships/slideLayout" Target="../slideLayouts/slideLayout539.xml"/><Relationship Id="rId14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41.xml"/><Relationship Id="rId4" Type="http://schemas.openxmlformats.org/officeDocument/2006/relationships/slideLayout" Target="../slideLayouts/slideLayout542.xml"/><Relationship Id="rId5" Type="http://schemas.openxmlformats.org/officeDocument/2006/relationships/slideLayout" Target="../slideLayouts/slideLayout543.xml"/><Relationship Id="rId6" Type="http://schemas.openxmlformats.org/officeDocument/2006/relationships/slideLayout" Target="../slideLayouts/slideLayout544.xml"/><Relationship Id="rId7" Type="http://schemas.openxmlformats.org/officeDocument/2006/relationships/slideLayout" Target="../slideLayouts/slideLayout545.xml"/><Relationship Id="rId8" Type="http://schemas.openxmlformats.org/officeDocument/2006/relationships/slideLayout" Target="../slideLayouts/slideLayout546.xml"/><Relationship Id="rId9" Type="http://schemas.openxmlformats.org/officeDocument/2006/relationships/slideLayout" Target="../slideLayouts/slideLayout547.xml"/><Relationship Id="rId10" Type="http://schemas.openxmlformats.org/officeDocument/2006/relationships/slideLayout" Target="../slideLayouts/slideLayout548.xml"/><Relationship Id="rId11" Type="http://schemas.openxmlformats.org/officeDocument/2006/relationships/slideLayout" Target="../slideLayouts/slideLayout549.xml"/><Relationship Id="rId12" Type="http://schemas.openxmlformats.org/officeDocument/2006/relationships/slideLayout" Target="../slideLayouts/slideLayout550.xml"/><Relationship Id="rId13" Type="http://schemas.openxmlformats.org/officeDocument/2006/relationships/slideLayout" Target="../slideLayouts/slideLayout551.xml"/><Relationship Id="rId14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53.xml"/><Relationship Id="rId4" Type="http://schemas.openxmlformats.org/officeDocument/2006/relationships/slideLayout" Target="../slideLayouts/slideLayout554.xml"/><Relationship Id="rId5" Type="http://schemas.openxmlformats.org/officeDocument/2006/relationships/slideLayout" Target="../slideLayouts/slideLayout555.xml"/><Relationship Id="rId6" Type="http://schemas.openxmlformats.org/officeDocument/2006/relationships/slideLayout" Target="../slideLayouts/slideLayout556.xml"/><Relationship Id="rId7" Type="http://schemas.openxmlformats.org/officeDocument/2006/relationships/slideLayout" Target="../slideLayouts/slideLayout557.xml"/><Relationship Id="rId8" Type="http://schemas.openxmlformats.org/officeDocument/2006/relationships/slideLayout" Target="../slideLayouts/slideLayout558.xml"/><Relationship Id="rId9" Type="http://schemas.openxmlformats.org/officeDocument/2006/relationships/slideLayout" Target="../slideLayouts/slideLayout559.xml"/><Relationship Id="rId10" Type="http://schemas.openxmlformats.org/officeDocument/2006/relationships/slideLayout" Target="../slideLayouts/slideLayout560.xml"/><Relationship Id="rId11" Type="http://schemas.openxmlformats.org/officeDocument/2006/relationships/slideLayout" Target="../slideLayouts/slideLayout561.xml"/><Relationship Id="rId12" Type="http://schemas.openxmlformats.org/officeDocument/2006/relationships/slideLayout" Target="../slideLayouts/slideLayout562.xml"/><Relationship Id="rId13" Type="http://schemas.openxmlformats.org/officeDocument/2006/relationships/slideLayout" Target="../slideLayouts/slideLayout563.xml"/><Relationship Id="rId14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65.xml"/><Relationship Id="rId4" Type="http://schemas.openxmlformats.org/officeDocument/2006/relationships/slideLayout" Target="../slideLayouts/slideLayout566.xml"/><Relationship Id="rId5" Type="http://schemas.openxmlformats.org/officeDocument/2006/relationships/slideLayout" Target="../slideLayouts/slideLayout567.xml"/><Relationship Id="rId6" Type="http://schemas.openxmlformats.org/officeDocument/2006/relationships/slideLayout" Target="../slideLayouts/slideLayout568.xml"/><Relationship Id="rId7" Type="http://schemas.openxmlformats.org/officeDocument/2006/relationships/slideLayout" Target="../slideLayouts/slideLayout569.xml"/><Relationship Id="rId8" Type="http://schemas.openxmlformats.org/officeDocument/2006/relationships/slideLayout" Target="../slideLayouts/slideLayout570.xml"/><Relationship Id="rId9" Type="http://schemas.openxmlformats.org/officeDocument/2006/relationships/slideLayout" Target="../slideLayouts/slideLayout571.xml"/><Relationship Id="rId10" Type="http://schemas.openxmlformats.org/officeDocument/2006/relationships/slideLayout" Target="../slideLayouts/slideLayout572.xml"/><Relationship Id="rId11" Type="http://schemas.openxmlformats.org/officeDocument/2006/relationships/slideLayout" Target="../slideLayouts/slideLayout573.xml"/><Relationship Id="rId12" Type="http://schemas.openxmlformats.org/officeDocument/2006/relationships/slideLayout" Target="../slideLayouts/slideLayout574.xml"/><Relationship Id="rId13" Type="http://schemas.openxmlformats.org/officeDocument/2006/relationships/slideLayout" Target="../slideLayouts/slideLayout575.xml"/><Relationship Id="rId14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77.xml"/><Relationship Id="rId4" Type="http://schemas.openxmlformats.org/officeDocument/2006/relationships/slideLayout" Target="../slideLayouts/slideLayout578.xml"/><Relationship Id="rId5" Type="http://schemas.openxmlformats.org/officeDocument/2006/relationships/slideLayout" Target="../slideLayouts/slideLayout579.xml"/><Relationship Id="rId6" Type="http://schemas.openxmlformats.org/officeDocument/2006/relationships/slideLayout" Target="../slideLayouts/slideLayout580.xml"/><Relationship Id="rId7" Type="http://schemas.openxmlformats.org/officeDocument/2006/relationships/slideLayout" Target="../slideLayouts/slideLayout581.xml"/><Relationship Id="rId8" Type="http://schemas.openxmlformats.org/officeDocument/2006/relationships/slideLayout" Target="../slideLayouts/slideLayout582.xml"/><Relationship Id="rId9" Type="http://schemas.openxmlformats.org/officeDocument/2006/relationships/slideLayout" Target="../slideLayouts/slideLayout583.xml"/><Relationship Id="rId10" Type="http://schemas.openxmlformats.org/officeDocument/2006/relationships/slideLayout" Target="../slideLayouts/slideLayout584.xml"/><Relationship Id="rId11" Type="http://schemas.openxmlformats.org/officeDocument/2006/relationships/slideLayout" Target="../slideLayouts/slideLayout585.xml"/><Relationship Id="rId12" Type="http://schemas.openxmlformats.org/officeDocument/2006/relationships/slideLayout" Target="../slideLayouts/slideLayout586.xml"/><Relationship Id="rId13" Type="http://schemas.openxmlformats.org/officeDocument/2006/relationships/slideLayout" Target="../slideLayouts/slideLayout587.xml"/><Relationship Id="rId14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0" y="981000"/>
            <a:ext cx="9134640" cy="5877000"/>
          </a:xfrm>
          <a:custGeom>
            <a:avLst/>
            <a:gdLst>
              <a:gd name="textAreaLeft" fmla="*/ 0 w 9134640"/>
              <a:gd name="textAreaRight" fmla="*/ 9135000 w 9134640"/>
              <a:gd name="textAreaTop" fmla="*/ 0 h 5877000"/>
              <a:gd name="textAreaBottom" fmla="*/ 5877360 h 587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f5494"/>
          </a:solidFill>
          <a:ln cap="sq"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3976560" y="26028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2" name="AutoShape 3"/>
          <p:cNvSpPr/>
          <p:nvPr/>
        </p:nvSpPr>
        <p:spPr>
          <a:xfrm>
            <a:off x="4262400" y="6659640"/>
            <a:ext cx="596880" cy="198360"/>
          </a:xfrm>
          <a:prstGeom prst="pie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  <a:ea typeface="Arial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89924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68000" y="2492280"/>
            <a:ext cx="489276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20E31-DC1A-44AE-8CE4-60E2EE7F59BA}" type="slidenum">
              <a:rPr b="0" lang="en-GB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Freeform 1"/>
          <p:cNvSpPr/>
          <p:nvPr/>
        </p:nvSpPr>
        <p:spPr>
          <a:xfrm>
            <a:off x="0" y="0"/>
            <a:ext cx="9144000" cy="9572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398" name="AutoShape 3"/>
          <p:cNvSpPr/>
          <p:nvPr/>
        </p:nvSpPr>
        <p:spPr>
          <a:xfrm>
            <a:off x="4272120" y="6659640"/>
            <a:ext cx="596880" cy="198360"/>
          </a:xfrm>
          <a:prstGeom prst="pie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  <a:ea typeface="Arial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89924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68000" y="2492280"/>
            <a:ext cx="489276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1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10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B5106EA-2783-46B9-B614-2F51F364B2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reeform 1"/>
          <p:cNvSpPr/>
          <p:nvPr/>
        </p:nvSpPr>
        <p:spPr>
          <a:xfrm>
            <a:off x="0" y="0"/>
            <a:ext cx="9144000" cy="9572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1" name="Picture 2" descr="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4272120" y="6659640"/>
            <a:ext cx="596880" cy="198360"/>
          </a:xfrm>
          <a:prstGeom prst="pie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  <a:ea typeface="Arial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89924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68000" y="2492280"/>
            <a:ext cx="489276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sldNum" idx="1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1746D78-60F7-44DF-9DC9-FBC5E2C8D0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Freeform 1"/>
          <p:cNvSpPr/>
          <p:nvPr/>
        </p:nvSpPr>
        <p:spPr>
          <a:xfrm>
            <a:off x="0" y="0"/>
            <a:ext cx="9144000" cy="9572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5" name="Picture 2" descr="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486" name="AutoShape 3"/>
          <p:cNvSpPr/>
          <p:nvPr/>
        </p:nvSpPr>
        <p:spPr>
          <a:xfrm>
            <a:off x="4272120" y="6659640"/>
            <a:ext cx="596880" cy="198360"/>
          </a:xfrm>
          <a:prstGeom prst="pie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  <a:ea typeface="Arial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89924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68000" y="2492280"/>
            <a:ext cx="489276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9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Text Box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321899C-9437-43E4-B8B0-341FA8E5216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81FD805-5694-4C45-9A46-55CAE1F763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Rectangle 6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4" name="Picture 7" descr="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8"/>
          <p:cNvSpPr/>
          <p:nvPr/>
        </p:nvSpPr>
        <p:spPr>
          <a:xfrm>
            <a:off x="4272120" y="6659640"/>
            <a:ext cx="596880" cy="198360"/>
          </a:xfrm>
          <a:prstGeom prst="rect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81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81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4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85E8CBC-CDC9-4C5C-8836-2FEB092227DF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Rectangle 6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8" name="Rectangle 7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9" name="Picture 8" descr="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Freeform 1"/>
          <p:cNvSpPr/>
          <p:nvPr/>
        </p:nvSpPr>
        <p:spPr>
          <a:xfrm>
            <a:off x="0" y="0"/>
            <a:ext cx="9144000" cy="9572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618" name="AutoShape 3"/>
          <p:cNvSpPr/>
          <p:nvPr/>
        </p:nvSpPr>
        <p:spPr>
          <a:xfrm>
            <a:off x="4272120" y="6659640"/>
            <a:ext cx="596880" cy="198360"/>
          </a:xfrm>
          <a:prstGeom prst="pie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  <a:ea typeface="Arial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89924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468000" y="2492280"/>
            <a:ext cx="489276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1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2" name="Text Box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sldNum" idx="15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08F7E7D-787F-4FDF-B231-0D49013697EA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1"/>
          <p:cNvSpPr/>
          <p:nvPr/>
        </p:nvSpPr>
        <p:spPr>
          <a:xfrm>
            <a:off x="0" y="981000"/>
            <a:ext cx="9134640" cy="5877000"/>
          </a:xfrm>
          <a:prstGeom prst="rect">
            <a:avLst/>
          </a:prstGeom>
          <a:solidFill>
            <a:srgbClr val="0f5494"/>
          </a:solidFill>
          <a:ln cap="sq"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1" name="Picture 2" descr=""/>
          <p:cNvPicPr/>
          <p:nvPr/>
        </p:nvPicPr>
        <p:blipFill>
          <a:blip r:embed="rId2"/>
          <a:stretch/>
        </p:blipFill>
        <p:spPr>
          <a:xfrm>
            <a:off x="3976560" y="26028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3"/>
          <p:cNvSpPr/>
          <p:nvPr/>
        </p:nvSpPr>
        <p:spPr>
          <a:xfrm>
            <a:off x="4262400" y="6659640"/>
            <a:ext cx="596880" cy="198360"/>
          </a:xfrm>
          <a:prstGeom prst="rect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6" name="Text Box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sldNum" idx="1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33E392C-3A6A-4345-9408-F281F2939790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1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5" name="Picture 2" descr="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706" name="Rectangle 3"/>
          <p:cNvSpPr/>
          <p:nvPr/>
        </p:nvSpPr>
        <p:spPr>
          <a:xfrm>
            <a:off x="4272120" y="6659640"/>
            <a:ext cx="596880" cy="198360"/>
          </a:xfrm>
          <a:prstGeom prst="rect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9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0" name="Text Box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0BC66E4-AA71-4296-A326-47DA923923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1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49" name="Picture 2" descr="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750" name="Rectangle 3"/>
          <p:cNvSpPr/>
          <p:nvPr/>
        </p:nvSpPr>
        <p:spPr>
          <a:xfrm>
            <a:off x="4272120" y="6659640"/>
            <a:ext cx="596880" cy="198360"/>
          </a:xfrm>
          <a:prstGeom prst="rect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3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4" name="Text Box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sldNum" idx="18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479A82B-57D2-4615-915E-9BC20253423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1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3" name="Picture 2" descr="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794" name="Rectangle 3"/>
          <p:cNvSpPr/>
          <p:nvPr/>
        </p:nvSpPr>
        <p:spPr>
          <a:xfrm>
            <a:off x="4272120" y="6659640"/>
            <a:ext cx="596880" cy="198360"/>
          </a:xfrm>
          <a:prstGeom prst="rect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7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8" name="Text Box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 type="sldNum" idx="19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1473015-0574-4AEA-AB4D-5EA81C29CA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1"/>
          <p:cNvSpPr/>
          <p:nvPr/>
        </p:nvSpPr>
        <p:spPr>
          <a:xfrm>
            <a:off x="0" y="0"/>
            <a:ext cx="9144000" cy="9572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3"/>
          <p:cNvSpPr/>
          <p:nvPr/>
        </p:nvSpPr>
        <p:spPr>
          <a:xfrm>
            <a:off x="4272120" y="6659640"/>
            <a:ext cx="596880" cy="198360"/>
          </a:xfrm>
          <a:prstGeom prst="pie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  <a:ea typeface="Arial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89924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68000" y="2492280"/>
            <a:ext cx="489276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2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5A1CEB7-BC0B-4755-A9E0-18FD05702D0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1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7" name="Picture 2" descr="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838" name="Rectangle 3"/>
          <p:cNvSpPr/>
          <p:nvPr/>
        </p:nvSpPr>
        <p:spPr>
          <a:xfrm>
            <a:off x="4272120" y="6659640"/>
            <a:ext cx="596880" cy="198360"/>
          </a:xfrm>
          <a:prstGeom prst="rect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1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2" name="Text Box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 type="sldNum" idx="20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8AE240E-E42E-47F6-B1C5-52D9BC8595B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1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1" name="Picture 2" descr="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882" name="Rectangle 3"/>
          <p:cNvSpPr/>
          <p:nvPr/>
        </p:nvSpPr>
        <p:spPr>
          <a:xfrm>
            <a:off x="4272120" y="6659640"/>
            <a:ext cx="596880" cy="198360"/>
          </a:xfrm>
          <a:prstGeom prst="rect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5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6" name="Text Box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0EAE05A-36EB-4BEE-9702-DD45F962E55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1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5" name="Picture 2" descr="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926" name="Rectangle 3"/>
          <p:cNvSpPr/>
          <p:nvPr/>
        </p:nvSpPr>
        <p:spPr>
          <a:xfrm>
            <a:off x="4272120" y="6659640"/>
            <a:ext cx="596880" cy="198360"/>
          </a:xfrm>
          <a:prstGeom prst="rect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9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Text Box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 type="sldNum" idx="2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FA9FF65-A7A2-4AAA-83D5-C0AF1EBFC0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1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9" name="Picture 2" descr="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970" name="Rectangle 3"/>
          <p:cNvSpPr/>
          <p:nvPr/>
        </p:nvSpPr>
        <p:spPr>
          <a:xfrm>
            <a:off x="4272120" y="6659640"/>
            <a:ext cx="596880" cy="198360"/>
          </a:xfrm>
          <a:prstGeom prst="rect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3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4" name="Text Box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sldNum" idx="2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4DAFBA0-FEDB-4E3C-BDB1-8605BD557A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1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13" name="Picture 2" descr="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1014" name="Rectangle 3"/>
          <p:cNvSpPr/>
          <p:nvPr/>
        </p:nvSpPr>
        <p:spPr>
          <a:xfrm>
            <a:off x="4272120" y="6659640"/>
            <a:ext cx="596880" cy="198360"/>
          </a:xfrm>
          <a:prstGeom prst="rect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7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8" name="Text Box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3B240EF-1C93-4C06-A720-EBF670063F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1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7" name="Picture 2" descr="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1058" name="Rectangle 3"/>
          <p:cNvSpPr/>
          <p:nvPr/>
        </p:nvSpPr>
        <p:spPr>
          <a:xfrm>
            <a:off x="4272120" y="6659640"/>
            <a:ext cx="596880" cy="198360"/>
          </a:xfrm>
          <a:prstGeom prst="rect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1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Text Box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 type="sldNum" idx="2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D103E59-13F9-4539-87F4-AC3E3651870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1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1" name="Picture 2" descr="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1102" name="Rectangle 3"/>
          <p:cNvSpPr/>
          <p:nvPr/>
        </p:nvSpPr>
        <p:spPr>
          <a:xfrm>
            <a:off x="4272120" y="6659640"/>
            <a:ext cx="596880" cy="198360"/>
          </a:xfrm>
          <a:prstGeom prst="rect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5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6" name="Text Box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 type="sldNum" idx="2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FB820CE-DA8C-46BB-9452-14575320FA9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1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45" name="Picture 2" descr="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1146" name="Rectangle 3"/>
          <p:cNvSpPr/>
          <p:nvPr/>
        </p:nvSpPr>
        <p:spPr>
          <a:xfrm>
            <a:off x="4272120" y="6659640"/>
            <a:ext cx="596880" cy="198360"/>
          </a:xfrm>
          <a:prstGeom prst="rect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9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0" name="Text Box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631C07C-AB69-436F-AA74-C88D1789C8B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1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89" name="Picture 2" descr="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1190" name="Rectangle 3"/>
          <p:cNvSpPr/>
          <p:nvPr/>
        </p:nvSpPr>
        <p:spPr>
          <a:xfrm>
            <a:off x="4272120" y="6659640"/>
            <a:ext cx="596880" cy="198360"/>
          </a:xfrm>
          <a:prstGeom prst="rect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3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4" name="Text Box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sldNum" idx="28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FC1A78D-5C9F-4180-8ED2-DFE1B633F82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1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cap="sq"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3" name="Picture 2" descr="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1234" name="Rectangle 3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81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81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7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8" name="Text Box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57B0163-3419-4B6E-B417-F08D6DC3EC0E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1"/>
          <p:cNvSpPr/>
          <p:nvPr/>
        </p:nvSpPr>
        <p:spPr>
          <a:xfrm>
            <a:off x="0" y="0"/>
            <a:ext cx="9144000" cy="9572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3"/>
          <p:cNvSpPr/>
          <p:nvPr/>
        </p:nvSpPr>
        <p:spPr>
          <a:xfrm>
            <a:off x="4272120" y="6659640"/>
            <a:ext cx="596880" cy="198360"/>
          </a:xfrm>
          <a:prstGeom prst="pie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  <a:ea typeface="Arial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89924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68000" y="2492280"/>
            <a:ext cx="489276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E47D811-F4C0-4272-8AF0-3CEA44F37EA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1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7" name="Rectangle 2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78" name="Picture 3" descr="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81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81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1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2" name="Text Box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 type="sldNum" idx="30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4E987B2-ED1C-44D8-8C0A-75129A2C93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1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1" name="Rectangle 2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22" name="Picture 3" descr="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81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81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5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6" name="Text Box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 type="sldNum" idx="3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5A5BAD3-B5CC-4C85-B58C-59EB984BF6E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Rectangle 1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5" name="Rectangle 2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66" name="Picture 3" descr="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81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81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9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0" name="Text Box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 type="sldNum" idx="3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3710C7D-07ED-42E9-A2C3-7FC48109FA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Rectangle 1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9" name="Rectangle 2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10" name="Picture 3" descr="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81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81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13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4" name="Text Box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 type="sldNum" idx="3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0313766-4E88-423C-A2B0-0F2A49753F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1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3" name="Rectangle 2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54" name="Picture 3" descr="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81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81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7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8" name="Text Box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 type="sldNum" idx="34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6D12C23-9E75-48DB-84E2-7BFFDC288E8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Rectangle 1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7" name="Rectangle 2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498" name="Picture 3" descr="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81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81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1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2" name="Text Box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 type="sldNum" idx="3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7806CF5-32AB-4FCB-ACC8-EF7835359F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Rectangle 1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1" name="Rectangle 2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42" name="Picture 3" descr="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81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81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5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6" name="Text Box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 type="sldNum" idx="3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B534928-493E-41C8-B17A-AAA22BA9D1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1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5" name="Rectangle 2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86" name="Picture 3" descr="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81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81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9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0" name="Text Box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 type="sldNum" idx="37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AE17245-F6F1-400D-ADC0-AB8F0A02BE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Rectangle 1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9" name="Rectangle 2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30" name="Picture 3" descr="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395280" y="1339560"/>
            <a:ext cx="82281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81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3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4" name="Text Box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 type="sldNum" idx="38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C6FE302-E954-4033-B504-AD5486B675D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Freeform 1"/>
          <p:cNvSpPr/>
          <p:nvPr/>
        </p:nvSpPr>
        <p:spPr>
          <a:xfrm>
            <a:off x="0" y="0"/>
            <a:ext cx="9144000" cy="9572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73" name="Picture 2" descr="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1674" name="AutoShape 3"/>
          <p:cNvSpPr/>
          <p:nvPr/>
        </p:nvSpPr>
        <p:spPr>
          <a:xfrm>
            <a:off x="4272120" y="6659640"/>
            <a:ext cx="596880" cy="198360"/>
          </a:xfrm>
          <a:prstGeom prst="pie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  <a:ea typeface="Arial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5" name="Text Box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6" name="Text Box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89924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468000" y="2492280"/>
            <a:ext cx="489276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 type="sldNum" idx="39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8F185D3-607E-4083-AC84-995884384D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reeform 1"/>
          <p:cNvSpPr/>
          <p:nvPr/>
        </p:nvSpPr>
        <p:spPr>
          <a:xfrm>
            <a:off x="0" y="0"/>
            <a:ext cx="9144000" cy="9572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3"/>
          <p:cNvSpPr/>
          <p:nvPr/>
        </p:nvSpPr>
        <p:spPr>
          <a:xfrm>
            <a:off x="4272120" y="6659640"/>
            <a:ext cx="596880" cy="198360"/>
          </a:xfrm>
          <a:prstGeom prst="pie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  <a:ea typeface="Arial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89924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68000" y="2492280"/>
            <a:ext cx="489276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510BD68-B098-4A4C-BE76-98692FED80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Freeform 1"/>
          <p:cNvSpPr/>
          <p:nvPr/>
        </p:nvSpPr>
        <p:spPr>
          <a:xfrm>
            <a:off x="0" y="0"/>
            <a:ext cx="9144000" cy="9572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17" name="Picture 2" descr="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1718" name="AutoShape 3"/>
          <p:cNvSpPr/>
          <p:nvPr/>
        </p:nvSpPr>
        <p:spPr>
          <a:xfrm>
            <a:off x="4272120" y="6659640"/>
            <a:ext cx="596880" cy="198360"/>
          </a:xfrm>
          <a:prstGeom prst="pie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  <a:ea typeface="Arial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9" name="Text Box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0" name="Text Box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89924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body"/>
          </p:nvPr>
        </p:nvSpPr>
        <p:spPr>
          <a:xfrm>
            <a:off x="468000" y="2492280"/>
            <a:ext cx="489276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 type="sldNum" idx="40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342FB78-DF4C-4A89-BC72-B04BAC9AC2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Freeform 1"/>
          <p:cNvSpPr/>
          <p:nvPr/>
        </p:nvSpPr>
        <p:spPr>
          <a:xfrm>
            <a:off x="0" y="0"/>
            <a:ext cx="9144000" cy="9572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61" name="Picture 2" descr="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1762" name="AutoShape 3"/>
          <p:cNvSpPr/>
          <p:nvPr/>
        </p:nvSpPr>
        <p:spPr>
          <a:xfrm>
            <a:off x="4272120" y="6659640"/>
            <a:ext cx="596880" cy="198360"/>
          </a:xfrm>
          <a:prstGeom prst="pie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  <a:ea typeface="Arial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3" name="Text Box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4" name="Text Box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89924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468000" y="2492280"/>
            <a:ext cx="489276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 type="sldNum" idx="4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1B2FA04-71C0-4066-89CC-5389739C15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Freeform 1"/>
          <p:cNvSpPr/>
          <p:nvPr/>
        </p:nvSpPr>
        <p:spPr>
          <a:xfrm>
            <a:off x="0" y="0"/>
            <a:ext cx="9144000" cy="9572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05" name="Picture 2" descr="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1806" name="AutoShape 3"/>
          <p:cNvSpPr/>
          <p:nvPr/>
        </p:nvSpPr>
        <p:spPr>
          <a:xfrm>
            <a:off x="4272120" y="6659640"/>
            <a:ext cx="596880" cy="198360"/>
          </a:xfrm>
          <a:prstGeom prst="pie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  <a:ea typeface="Arial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7" name="Text Box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8" name="Text Box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89924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body"/>
          </p:nvPr>
        </p:nvSpPr>
        <p:spPr>
          <a:xfrm>
            <a:off x="468000" y="2492280"/>
            <a:ext cx="489276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 type="sldNum" idx="42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479CD7F-CBBD-4E41-92D6-927B87DECC2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3"/>
    <p:sldLayoutId id="2147484183" r:id="rId4"/>
    <p:sldLayoutId id="2147484184" r:id="rId5"/>
    <p:sldLayoutId id="2147484185" r:id="rId6"/>
    <p:sldLayoutId id="2147484186" r:id="rId7"/>
    <p:sldLayoutId id="2147484187" r:id="rId8"/>
    <p:sldLayoutId id="2147484188" r:id="rId9"/>
    <p:sldLayoutId id="2147484189" r:id="rId10"/>
    <p:sldLayoutId id="2147484190" r:id="rId11"/>
    <p:sldLayoutId id="2147484191" r:id="rId12"/>
    <p:sldLayoutId id="2147484192" r:id="rId13"/>
    <p:sldLayoutId id="2147484193" r:id="rId14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Freeform 1"/>
          <p:cNvSpPr/>
          <p:nvPr/>
        </p:nvSpPr>
        <p:spPr>
          <a:xfrm>
            <a:off x="0" y="0"/>
            <a:ext cx="9144000" cy="9572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49" name="Picture 2" descr="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1850" name="AutoShape 3"/>
          <p:cNvSpPr/>
          <p:nvPr/>
        </p:nvSpPr>
        <p:spPr>
          <a:xfrm>
            <a:off x="4272120" y="6659640"/>
            <a:ext cx="596880" cy="198360"/>
          </a:xfrm>
          <a:prstGeom prst="pie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  <a:ea typeface="Arial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1" name="Text Box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2" name="Text Box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89924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 type="body"/>
          </p:nvPr>
        </p:nvSpPr>
        <p:spPr>
          <a:xfrm>
            <a:off x="468000" y="2492280"/>
            <a:ext cx="489276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 type="sldNum" idx="4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B6A22AA-8733-4D8A-A8BC-DC6A97E1FBE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3"/>
    <p:sldLayoutId id="2147484196" r:id="rId4"/>
    <p:sldLayoutId id="2147484197" r:id="rId5"/>
    <p:sldLayoutId id="2147484198" r:id="rId6"/>
    <p:sldLayoutId id="2147484199" r:id="rId7"/>
    <p:sldLayoutId id="2147484200" r:id="rId8"/>
    <p:sldLayoutId id="2147484201" r:id="rId9"/>
    <p:sldLayoutId id="2147484202" r:id="rId10"/>
    <p:sldLayoutId id="2147484203" r:id="rId11"/>
    <p:sldLayoutId id="2147484204" r:id="rId12"/>
    <p:sldLayoutId id="2147484205" r:id="rId13"/>
    <p:sldLayoutId id="2147484206" r:id="rId14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Freeform 1"/>
          <p:cNvSpPr/>
          <p:nvPr/>
        </p:nvSpPr>
        <p:spPr>
          <a:xfrm>
            <a:off x="0" y="0"/>
            <a:ext cx="9144000" cy="9572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93" name="Picture 2" descr="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1894" name="AutoShape 3"/>
          <p:cNvSpPr/>
          <p:nvPr/>
        </p:nvSpPr>
        <p:spPr>
          <a:xfrm>
            <a:off x="4272120" y="6659640"/>
            <a:ext cx="596880" cy="198360"/>
          </a:xfrm>
          <a:prstGeom prst="pie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  <a:ea typeface="Arial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5" name="Text Box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6" name="Text Box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89924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 type="body"/>
          </p:nvPr>
        </p:nvSpPr>
        <p:spPr>
          <a:xfrm>
            <a:off x="468000" y="2492280"/>
            <a:ext cx="489276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9" name="PlaceHolder 3"/>
          <p:cNvSpPr>
            <a:spLocks noGrp="1"/>
          </p:cNvSpPr>
          <p:nvPr>
            <p:ph type="sldNum" idx="44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A9AD17D-43CC-46CC-88FA-7230110346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Freeform 1"/>
          <p:cNvSpPr/>
          <p:nvPr/>
        </p:nvSpPr>
        <p:spPr>
          <a:xfrm>
            <a:off x="0" y="0"/>
            <a:ext cx="9144000" cy="9572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37" name="Picture 2" descr="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1938" name="AutoShape 3"/>
          <p:cNvSpPr/>
          <p:nvPr/>
        </p:nvSpPr>
        <p:spPr>
          <a:xfrm>
            <a:off x="4272120" y="6659640"/>
            <a:ext cx="596880" cy="198360"/>
          </a:xfrm>
          <a:prstGeom prst="pie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  <a:ea typeface="Arial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9" name="Text Box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0" name="Text Box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89924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 type="body"/>
          </p:nvPr>
        </p:nvSpPr>
        <p:spPr>
          <a:xfrm>
            <a:off x="468000" y="2492280"/>
            <a:ext cx="489276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 type="sldNum" idx="45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B140FC0-ABEF-42EC-AD52-C77ED7E84B8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3"/>
    <p:sldLayoutId id="2147484222" r:id="rId4"/>
    <p:sldLayoutId id="2147484223" r:id="rId5"/>
    <p:sldLayoutId id="2147484224" r:id="rId6"/>
    <p:sldLayoutId id="2147484225" r:id="rId7"/>
    <p:sldLayoutId id="2147484226" r:id="rId8"/>
    <p:sldLayoutId id="2147484227" r:id="rId9"/>
    <p:sldLayoutId id="2147484228" r:id="rId10"/>
    <p:sldLayoutId id="2147484229" r:id="rId11"/>
    <p:sldLayoutId id="2147484230" r:id="rId12"/>
    <p:sldLayoutId id="2147484231" r:id="rId13"/>
    <p:sldLayoutId id="2147484232" r:id="rId14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Freeform 1"/>
          <p:cNvSpPr/>
          <p:nvPr/>
        </p:nvSpPr>
        <p:spPr>
          <a:xfrm>
            <a:off x="0" y="0"/>
            <a:ext cx="9144000" cy="9572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981" name="Picture 2" descr="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1982" name="AutoShape 3"/>
          <p:cNvSpPr/>
          <p:nvPr/>
        </p:nvSpPr>
        <p:spPr>
          <a:xfrm>
            <a:off x="4272120" y="6659640"/>
            <a:ext cx="596880" cy="198360"/>
          </a:xfrm>
          <a:prstGeom prst="pie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  <a:ea typeface="Arial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3" name="Text Box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4" name="Text Box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89924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468000" y="2492280"/>
            <a:ext cx="489276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7" name="PlaceHolder 3"/>
          <p:cNvSpPr>
            <a:spLocks noGrp="1"/>
          </p:cNvSpPr>
          <p:nvPr>
            <p:ph type="sldNum" idx="46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1DE3E76-59C5-4AE4-A345-57FF97FACE1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3"/>
    <p:sldLayoutId id="2147484235" r:id="rId4"/>
    <p:sldLayoutId id="2147484236" r:id="rId5"/>
    <p:sldLayoutId id="2147484237" r:id="rId6"/>
    <p:sldLayoutId id="2147484238" r:id="rId7"/>
    <p:sldLayoutId id="2147484239" r:id="rId8"/>
    <p:sldLayoutId id="2147484240" r:id="rId9"/>
    <p:sldLayoutId id="2147484241" r:id="rId10"/>
    <p:sldLayoutId id="2147484242" r:id="rId11"/>
    <p:sldLayoutId id="2147484243" r:id="rId12"/>
    <p:sldLayoutId id="2147484244" r:id="rId13"/>
    <p:sldLayoutId id="2147484245" r:id="rId14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Freeform 1"/>
          <p:cNvSpPr/>
          <p:nvPr/>
        </p:nvSpPr>
        <p:spPr>
          <a:xfrm>
            <a:off x="0" y="0"/>
            <a:ext cx="9144000" cy="9572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25" name="Picture 2" descr="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2026" name="AutoShape 3"/>
          <p:cNvSpPr/>
          <p:nvPr/>
        </p:nvSpPr>
        <p:spPr>
          <a:xfrm>
            <a:off x="4272120" y="6659640"/>
            <a:ext cx="596880" cy="198360"/>
          </a:xfrm>
          <a:prstGeom prst="pie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  <a:ea typeface="Arial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7" name="Text Box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8" name="Text Box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89924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 type="body"/>
          </p:nvPr>
        </p:nvSpPr>
        <p:spPr>
          <a:xfrm>
            <a:off x="468000" y="2492280"/>
            <a:ext cx="489276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 type="sldNum" idx="47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E4B75E7-BD0D-4562-BA8C-8BC60C7856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3"/>
    <p:sldLayoutId id="2147484248" r:id="rId4"/>
    <p:sldLayoutId id="2147484249" r:id="rId5"/>
    <p:sldLayoutId id="2147484250" r:id="rId6"/>
    <p:sldLayoutId id="2147484251" r:id="rId7"/>
    <p:sldLayoutId id="2147484252" r:id="rId8"/>
    <p:sldLayoutId id="2147484253" r:id="rId9"/>
    <p:sldLayoutId id="2147484254" r:id="rId10"/>
    <p:sldLayoutId id="2147484255" r:id="rId11"/>
    <p:sldLayoutId id="2147484256" r:id="rId12"/>
    <p:sldLayoutId id="2147484257" r:id="rId13"/>
    <p:sldLayoutId id="2147484258" r:id="rId14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Freeform 1"/>
          <p:cNvSpPr/>
          <p:nvPr/>
        </p:nvSpPr>
        <p:spPr>
          <a:xfrm>
            <a:off x="0" y="0"/>
            <a:ext cx="9144000" cy="9572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069" name="Picture 2" descr="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2070" name="AutoShape 3"/>
          <p:cNvSpPr/>
          <p:nvPr/>
        </p:nvSpPr>
        <p:spPr>
          <a:xfrm>
            <a:off x="4272120" y="6659640"/>
            <a:ext cx="596880" cy="198360"/>
          </a:xfrm>
          <a:prstGeom prst="pie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  <a:ea typeface="Arial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1" name="Text Box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2" name="Text Box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89924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 type="body"/>
          </p:nvPr>
        </p:nvSpPr>
        <p:spPr>
          <a:xfrm>
            <a:off x="468000" y="2492280"/>
            <a:ext cx="489276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5" name="PlaceHolder 3"/>
          <p:cNvSpPr>
            <a:spLocks noGrp="1"/>
          </p:cNvSpPr>
          <p:nvPr>
            <p:ph type="sldNum" idx="48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C7E8332-F7FB-4485-BA16-1A0FB25187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3"/>
    <p:sldLayoutId id="2147484261" r:id="rId4"/>
    <p:sldLayoutId id="2147484262" r:id="rId5"/>
    <p:sldLayoutId id="2147484263" r:id="rId6"/>
    <p:sldLayoutId id="2147484264" r:id="rId7"/>
    <p:sldLayoutId id="2147484265" r:id="rId8"/>
    <p:sldLayoutId id="2147484266" r:id="rId9"/>
    <p:sldLayoutId id="2147484267" r:id="rId10"/>
    <p:sldLayoutId id="2147484268" r:id="rId11"/>
    <p:sldLayoutId id="2147484269" r:id="rId12"/>
    <p:sldLayoutId id="2147484270" r:id="rId13"/>
    <p:sldLayoutId id="2147484271" r:id="rId14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Freeform 1"/>
          <p:cNvSpPr/>
          <p:nvPr/>
        </p:nvSpPr>
        <p:spPr>
          <a:xfrm>
            <a:off x="0" y="0"/>
            <a:ext cx="9144000" cy="9572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13" name="Picture 2" descr="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2114" name="AutoShape 3"/>
          <p:cNvSpPr/>
          <p:nvPr/>
        </p:nvSpPr>
        <p:spPr>
          <a:xfrm>
            <a:off x="4272120" y="6659640"/>
            <a:ext cx="596880" cy="198360"/>
          </a:xfrm>
          <a:prstGeom prst="pie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  <a:ea typeface="Arial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9006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420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17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8" name="Text Box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 type="sldNum" idx="49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35B4A9E-6E46-491D-9284-0CDC4C565717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3"/>
    <p:sldLayoutId id="2147484274" r:id="rId4"/>
    <p:sldLayoutId id="2147484275" r:id="rId5"/>
    <p:sldLayoutId id="2147484276" r:id="rId6"/>
    <p:sldLayoutId id="2147484277" r:id="rId7"/>
    <p:sldLayoutId id="2147484278" r:id="rId8"/>
    <p:sldLayoutId id="2147484279" r:id="rId9"/>
    <p:sldLayoutId id="2147484280" r:id="rId10"/>
    <p:sldLayoutId id="2147484281" r:id="rId11"/>
    <p:sldLayoutId id="2147484282" r:id="rId12"/>
    <p:sldLayoutId id="2147484283" r:id="rId13"/>
    <p:sldLayoutId id="2147484284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reeform 1"/>
          <p:cNvSpPr/>
          <p:nvPr/>
        </p:nvSpPr>
        <p:spPr>
          <a:xfrm>
            <a:off x="0" y="0"/>
            <a:ext cx="9144000" cy="9572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178" name="AutoShape 3"/>
          <p:cNvSpPr/>
          <p:nvPr/>
        </p:nvSpPr>
        <p:spPr>
          <a:xfrm>
            <a:off x="4272120" y="6659640"/>
            <a:ext cx="596880" cy="198360"/>
          </a:xfrm>
          <a:prstGeom prst="pie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  <a:ea typeface="Arial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89924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68000" y="2492280"/>
            <a:ext cx="489276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5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A19E9C8-C596-4E66-925A-22EC736D332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reeform 1"/>
          <p:cNvSpPr/>
          <p:nvPr/>
        </p:nvSpPr>
        <p:spPr>
          <a:xfrm>
            <a:off x="0" y="0"/>
            <a:ext cx="9144000" cy="9572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3"/>
          <p:cNvSpPr/>
          <p:nvPr/>
        </p:nvSpPr>
        <p:spPr>
          <a:xfrm>
            <a:off x="4272120" y="6659640"/>
            <a:ext cx="596880" cy="198360"/>
          </a:xfrm>
          <a:prstGeom prst="pie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  <a:ea typeface="Arial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89924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68000" y="2492280"/>
            <a:ext cx="489276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C98EDE0-C664-4BCB-A12C-2966061112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reeform 1"/>
          <p:cNvSpPr/>
          <p:nvPr/>
        </p:nvSpPr>
        <p:spPr>
          <a:xfrm>
            <a:off x="0" y="0"/>
            <a:ext cx="9144000" cy="9572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3"/>
          <p:cNvSpPr/>
          <p:nvPr/>
        </p:nvSpPr>
        <p:spPr>
          <a:xfrm>
            <a:off x="4272120" y="6659640"/>
            <a:ext cx="596880" cy="198360"/>
          </a:xfrm>
          <a:prstGeom prst="pie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  <a:ea typeface="Arial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89924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68000" y="2492280"/>
            <a:ext cx="489276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7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86CAD51-74AD-4664-9F36-9D99AAE1DFE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reeform 1"/>
          <p:cNvSpPr/>
          <p:nvPr/>
        </p:nvSpPr>
        <p:spPr>
          <a:xfrm>
            <a:off x="0" y="0"/>
            <a:ext cx="9144000" cy="9572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310" name="AutoShape 3"/>
          <p:cNvSpPr/>
          <p:nvPr/>
        </p:nvSpPr>
        <p:spPr>
          <a:xfrm>
            <a:off x="4272120" y="6659640"/>
            <a:ext cx="596880" cy="198360"/>
          </a:xfrm>
          <a:prstGeom prst="pie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  <a:ea typeface="Arial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89924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68000" y="2492280"/>
            <a:ext cx="489276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Num" idx="8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68C008B-4BA6-4C52-9A41-BB8D3DE330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Freeform 1"/>
          <p:cNvSpPr/>
          <p:nvPr/>
        </p:nvSpPr>
        <p:spPr>
          <a:xfrm>
            <a:off x="0" y="0"/>
            <a:ext cx="9144000" cy="9572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957240"/>
              <a:gd name="textAreaBottom" fmla="*/ 957600 h 95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f5494"/>
          </a:solidFill>
          <a:ln cap="sq"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53" name="Picture 2" descr="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354" name="AutoShape 3"/>
          <p:cNvSpPr/>
          <p:nvPr/>
        </p:nvSpPr>
        <p:spPr>
          <a:xfrm>
            <a:off x="4272120" y="6659640"/>
            <a:ext cx="596880" cy="198360"/>
          </a:xfrm>
          <a:prstGeom prst="pie">
            <a:avLst/>
          </a:prstGeom>
          <a:solidFill>
            <a:srgbClr val="133176"/>
          </a:solidFill>
          <a:ln cap="sq"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  <a:ea typeface="Arial"/>
              </a:rPr>
              <a:t>Transport</a:t>
            </a:r>
            <a:endParaRPr b="0" lang="en-US" sz="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4899240" cy="9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68000" y="2492280"/>
            <a:ext cx="489276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ADBAD5D-7941-4B6A-9FB5-824EB21FA9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9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7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7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Text Box 1"/>
          <p:cNvSpPr/>
          <p:nvPr/>
        </p:nvSpPr>
        <p:spPr>
          <a:xfrm>
            <a:off x="468360" y="2781360"/>
            <a:ext cx="84614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12000"/>
          </a:bodyPr>
          <a:p>
            <a:pPr algn="ctr">
              <a:lnSpc>
                <a:spcPct val="100000"/>
              </a:lnSpc>
              <a:tabLst>
                <a:tab algn="l" pos="0"/>
                <a:tab algn="l" pos="144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fr-BE" sz="2800" spc="-1" strike="noStrike">
                <a:solidFill>
                  <a:srgbClr val="ffd624"/>
                </a:solidFill>
                <a:latin typeface="Verdana"/>
              </a:rPr>
              <a:t>Corridor VII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800" spc="-1" strike="noStrike">
                <a:solidFill>
                  <a:srgbClr val="ffd624"/>
                </a:solidFill>
                <a:latin typeface="Verdana"/>
              </a:rPr>
              <a:t>East Gat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BE" sz="2800" spc="-1" strike="noStrike">
                <a:solidFill>
                  <a:srgbClr val="00b050"/>
                </a:solidFill>
                <a:latin typeface="Verdana"/>
              </a:rPr>
              <a:t>Promoting Flagship1</a:t>
            </a:r>
            <a:br>
              <a:rPr sz="2800"/>
            </a:br>
            <a:r>
              <a:rPr b="1" i="1" lang="fr-BE" sz="2800" spc="-1" strike="noStrike">
                <a:solidFill>
                  <a:srgbClr val="00b050"/>
                </a:solidFill>
                <a:latin typeface="Verdana"/>
              </a:rPr>
              <a:t>« Connecting East to West 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d624"/>
                </a:solidFill>
                <a:latin typeface="Verdana"/>
              </a:rPr>
              <a:t>19 May 2021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44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7" name="Text Box 2"/>
          <p:cNvSpPr/>
          <p:nvPr/>
        </p:nvSpPr>
        <p:spPr>
          <a:xfrm>
            <a:off x="250920" y="4724280"/>
            <a:ext cx="860580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Verdana"/>
                <a:ea typeface="Arial"/>
              </a:rPr>
              <a:t>Alain Baron, Team Leader DG MOVE B2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8" name="Picture 1" descr=""/>
          <p:cNvPicPr/>
          <p:nvPr/>
        </p:nvPicPr>
        <p:blipFill>
          <a:blip r:embed="rId1"/>
          <a:stretch/>
        </p:blipFill>
        <p:spPr>
          <a:xfrm>
            <a:off x="1835280" y="1413000"/>
            <a:ext cx="515448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Text Box 1"/>
          <p:cNvSpPr/>
          <p:nvPr/>
        </p:nvSpPr>
        <p:spPr>
          <a:xfrm>
            <a:off x="461880" y="1197000"/>
            <a:ext cx="81424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indent="-357480" algn="ctr">
              <a:lnSpc>
                <a:spcPct val="100000"/>
              </a:lnSpc>
              <a:tabLst>
                <a:tab algn="l" pos="0"/>
                <a:tab algn="l" pos="358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Verdana"/>
              </a:rPr>
              <a:t>Corridor VIII: where do we stand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0" name="Text Box 2"/>
          <p:cNvSpPr/>
          <p:nvPr/>
        </p:nvSpPr>
        <p:spPr>
          <a:xfrm>
            <a:off x="468360" y="1916280"/>
            <a:ext cx="84247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0172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Pan-European Corridor since 1994 / horizontal axi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80172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Strong economic / network density imbalances between partners (EU / non EU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80172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Weak (lack of?) coordinated planning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80172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“</a:t>
            </a: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Comprehensive” rail and road in the current TEN-T regulatio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80172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Rationale to set up a </a:t>
            </a:r>
            <a:r>
              <a:rPr b="1" lang="en-GB" sz="2400" spc="-1" strike="noStrike" u="sng">
                <a:solidFill>
                  <a:srgbClr val="0f5494"/>
                </a:solidFill>
                <a:uFillTx/>
                <a:latin typeface="Verdana"/>
              </a:rPr>
              <a:t>multimodal</a:t>
            </a: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 corridor? Is the current or forecasted demand strong enough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80172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80172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80172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Text Box 1"/>
          <p:cNvSpPr/>
          <p:nvPr/>
        </p:nvSpPr>
        <p:spPr>
          <a:xfrm>
            <a:off x="461880" y="1197000"/>
            <a:ext cx="81424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40920" indent="-339480" algn="ctr">
              <a:lnSpc>
                <a:spcPct val="100000"/>
              </a:lnSpc>
              <a:tabLst>
                <a:tab algn="l" pos="0"/>
                <a:tab algn="l" pos="358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Verdana"/>
              </a:rPr>
              <a:t>How to proceed to make Corridor VIII more credibl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2" name="Text Box 2"/>
          <p:cNvSpPr/>
          <p:nvPr/>
        </p:nvSpPr>
        <p:spPr>
          <a:xfrm>
            <a:off x="468360" y="2133720"/>
            <a:ext cx="8424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Going beyond slogans : a real political will and economic rationale to support the projec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Coordinated transport policy along the corridor in MS and partner countri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Removal of existing obstacl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Axis : 1500 km, how to prioritize, what to prioritize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New Smart and Sustainable Transport Strategy : solutions for tomorrow not infrastructure of the pas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Text Box 1"/>
          <p:cNvSpPr/>
          <p:nvPr/>
        </p:nvSpPr>
        <p:spPr>
          <a:xfrm>
            <a:off x="461880" y="1197000"/>
            <a:ext cx="81424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marL="340920" indent="-339480" algn="ctr">
              <a:lnSpc>
                <a:spcPct val="100000"/>
              </a:lnSpc>
              <a:tabLst>
                <a:tab algn="l" pos="0"/>
                <a:tab algn="l" pos="35892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	</a:t>
            </a:r>
            <a:r>
              <a:rPr b="1" lang="en-GB" sz="2400" spc="-1" strike="noStrike">
                <a:solidFill>
                  <a:srgbClr val="ff0000"/>
                </a:solidFill>
                <a:latin typeface="Verdana"/>
              </a:rPr>
              <a:t>What EU can do? The forthcoming revision of the TEN-T Regul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4" name="Text Box 2"/>
          <p:cNvSpPr/>
          <p:nvPr/>
        </p:nvSpPr>
        <p:spPr>
          <a:xfrm>
            <a:off x="468360" y="1989000"/>
            <a:ext cx="842472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0172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2021 : year of the revision of the TEN-T Regulation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80172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Addressed to EU MS </a:t>
            </a:r>
            <a:r>
              <a:rPr b="1" lang="en-GB" sz="2400" spc="-1" strike="noStrike" u="sng">
                <a:solidFill>
                  <a:srgbClr val="0f5494"/>
                </a:solidFill>
                <a:uFillTx/>
                <a:latin typeface="Verdana"/>
              </a:rPr>
              <a:t>and to </a:t>
            </a: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neighbouring partner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80172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TCT pleads for a stronger integration of all Western Balkan partner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80172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Basics : no change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80172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No revolution on maps but an evolution according to duly justified need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80172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Quality – versus quantity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80172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Should reflect Smart Mobility strategy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title"/>
          </p:nvPr>
        </p:nvSpPr>
        <p:spPr>
          <a:xfrm>
            <a:off x="461520" y="1341360"/>
            <a:ext cx="850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BE" sz="2400" spc="-1" strike="noStrike">
                <a:solidFill>
                  <a:srgbClr val="ff0000"/>
                </a:solidFill>
                <a:latin typeface="Verdana"/>
              </a:rPr>
              <a:t>Future challenges when planning Corridor VIII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6" name=""/>
          <p:cNvSpPr txBox="1"/>
          <p:nvPr/>
        </p:nvSpPr>
        <p:spPr>
          <a:xfrm>
            <a:off x="468360" y="1699920"/>
            <a:ext cx="8424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01720" indent="-34308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CLEAN TRANSPORT </a:t>
            </a: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:The European Green Deal calls for a 90% reduction in greenhouse gas emissions from transport by 2050. To this end, the Commission adopted in December 2020 a </a:t>
            </a:r>
            <a:r>
              <a:rPr b="1" lang="en-US" sz="2000" spc="-1" strike="noStrike" u="sng">
                <a:solidFill>
                  <a:srgbClr val="0f5494"/>
                </a:solidFill>
                <a:uFillTx/>
                <a:latin typeface="Verdana"/>
              </a:rPr>
              <a:t>Strategy for Sustainable and Smart Mobility</a:t>
            </a: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4308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RESILIENT</a:t>
            </a: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Learning from COVID pandemic: we need to improve our Trans-European transport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43080" algn="just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SMART</a:t>
            </a: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 : We need to set out much needed </a:t>
            </a:r>
            <a:r>
              <a:rPr b="1" lang="en-US" sz="2000" spc="-1" strike="noStrike" u="sng">
                <a:solidFill>
                  <a:srgbClr val="0f5494"/>
                </a:solidFill>
                <a:uFillTx/>
                <a:latin typeface="Verdana"/>
              </a:rPr>
              <a:t>reforms</a:t>
            </a:r>
            <a:r>
              <a:rPr b="1" lang="en-US" sz="2000" spc="-1" strike="noStrike">
                <a:solidFill>
                  <a:srgbClr val="0f5494"/>
                </a:solidFill>
                <a:latin typeface="Verdana"/>
              </a:rPr>
              <a:t>, policies and actions to support the sect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43080" algn="just">
              <a:lnSpc>
                <a:spcPct val="100000"/>
              </a:lnSpc>
              <a:spcBef>
                <a:spcPts val="499"/>
              </a:spcBef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43080" algn="just">
              <a:lnSpc>
                <a:spcPct val="100000"/>
              </a:lnSpc>
              <a:spcBef>
                <a:spcPts val="499"/>
              </a:spcBef>
              <a:buClr>
                <a:srgbClr val="0f5494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PlaceHolder 1"/>
          <p:cNvSpPr>
            <a:spLocks noGrp="1"/>
          </p:cNvSpPr>
          <p:nvPr>
            <p:ph type="title"/>
          </p:nvPr>
        </p:nvSpPr>
        <p:spPr>
          <a:xfrm>
            <a:off x="461520" y="1339560"/>
            <a:ext cx="85741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GB" sz="3000" spc="-1" strike="noStrike">
              <a:solidFill>
                <a:srgbClr val="ff0000"/>
              </a:solidFill>
              <a:latin typeface="Verdana"/>
            </a:endParaRPr>
          </a:p>
        </p:txBody>
      </p:sp>
      <p:sp>
        <p:nvSpPr>
          <p:cNvPr id="2178" name=""/>
          <p:cNvSpPr txBox="1"/>
          <p:nvPr/>
        </p:nvSpPr>
        <p:spPr>
          <a:xfrm>
            <a:off x="468000" y="2133720"/>
            <a:ext cx="8496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BE" sz="2400" spc="-1" strike="noStrike">
                <a:solidFill>
                  <a:srgbClr val="0f5494"/>
                </a:solidFill>
                <a:latin typeface="Verdana"/>
              </a:rPr>
              <a:t>Thank You !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BE" sz="2400" spc="-1" strike="noStrike">
                <a:solidFill>
                  <a:srgbClr val="0f5494"/>
                </a:solidFill>
                <a:latin typeface="Verdana"/>
              </a:rPr>
              <a:t>Alain.baron@ec.europa.eu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5:51:44Z</dcterms:created>
  <dc:creator>BERTRAND Matthieu (MOVE)</dc:creator>
  <dc:description/>
  <dc:language>en-US</dc:language>
  <cp:lastModifiedBy>BARON Alain (MOVE)</cp:lastModifiedBy>
  <cp:lastPrinted>2015-06-02T10:36:02Z</cp:lastPrinted>
  <dcterms:modified xsi:type="dcterms:W3CDTF">2021-05-19T07:27:47Z</dcterms:modified>
  <cp:revision>169</cp:revision>
  <dc:subject/>
  <dc:title>The Connecting Europe Facility &amp; its Financial instruments, catalysts for infrastructure financing</dc:title>
</cp:coreProperties>
</file>